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CAC4-F130-41A9-988E-E7C578882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D911-53F8-4125-A8C7-A84A42DA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6D17-1F9D-44AF-B1AC-10438E12B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24DA-E31E-4593-BF33-84887BF4A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E91E-5E62-4863-A659-5E314D69D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8C6D-850C-4AF3-AE73-E024F9E4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7448-C5BD-4597-9BB1-93E2D679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BE9F-A4D6-43B2-A859-B18010BB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3252-98C1-4882-B9C3-73D81E89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3B7C-A38D-42C0-BAEC-18E5CB1B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100F-BD92-47D4-84D2-62BD4C71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9C4A-638A-455D-A312-DB41EB20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4F1A-5BFA-484C-B80F-DA0557B1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8FDE-626C-4FFB-BCF6-4792A298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AB48-B66C-48AF-8427-EDA9F52B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E997-8FD4-4726-AD5B-C97072C43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1FAE-808F-45CA-B975-A89FD80D6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38702-D229-407D-AA78-9CFCE983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DF065-1E82-4556-9728-97C97B4C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9E675-7209-49FD-97AB-1AE5DADB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EC6AF-D8AC-491A-A4A7-1C3A0384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53785-F2C4-4D67-80E8-47192479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BD34-7686-4979-BF35-328CAA36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EED27-2D61-4E55-B72C-E1276B28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40E56-D795-4C10-8EA0-A18CE745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C62A1-224E-42EE-9740-1D4CDC87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D5AFA-3BBC-4BF1-BAB7-AFD96B47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EA729-3B3C-4FEC-AA4F-B0604877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903C2-8B78-4F05-BCFF-2F0328283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01DB1-C538-472C-AE47-333141ADC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37C74-B05E-4F09-9473-169D492B5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D8586-64F7-4F11-B578-0392E31F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E79B0-BB4D-4E33-B8EF-0F30649E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5FF0-A52E-4F78-AC9A-53FA1ED8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3511B-C8F1-482C-80EA-A048E843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5A359-3B42-4497-A1BE-D489D73E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DD8B4-3FC9-471C-A1BF-A2C2A66D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37DD5-72BC-4486-8299-EFE8DBD4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2B057-FF73-4707-9360-7F3CC6DA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55DD4-214F-4A25-BE39-512D5A6C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36444-44FE-4A13-ABE3-4BFEED15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142EA-747E-4C5F-B32E-AF82751FE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B30AD-82AA-4A0D-9F1C-FDC63E07E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C8325-CB04-49EA-ABEB-C383A9C73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331C-39E2-40BD-B132-19103BDD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D8F86-06FE-4EA7-9C1C-E613DF2E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ADCC9-1CE3-41D0-831E-E663F741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B1700-572B-4496-A255-57DBF889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D2FE5-2E2D-4182-9C35-DFA5A7E2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E904C-A117-467F-A392-70F8B478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04FAC-D446-4F56-AE74-BC08BF18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DC8C0-F3A7-4FC5-9BEC-E8EB91E7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2A3E8-E3CA-481E-A476-2FC4BFBD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D131F-217D-409A-9A5A-C3056CB0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DAB40-C64C-4F2A-B186-0D365ACEE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7D0B-034E-4B3A-BE50-12987AE6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CCF8C-E8A4-4767-8A1B-176424463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3AF48-99E3-45AF-AB47-7601D840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382EF-CB4A-440F-810D-45DD399F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4B12E-37D3-4E22-9AEE-7B69076F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53CB2-DCDB-4A1B-8607-9BF67B93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7FD63-C481-453F-B52C-519EBF4B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BA819-9225-4767-8E14-299A6680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53C57-D5AF-4152-B860-F65D6808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D2A1A-73F8-4253-AD05-AE1B6D2B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0541A-C499-4C50-8C04-A176BC3B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B9C2-D042-43F0-BEA9-FC35A741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0EFAD-10FC-49F7-AF0E-68416CCF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60DC0-C8DD-4B29-A28D-7C061286D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6BD5E-1E0C-4E43-A814-688EA5B64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81E2-AEE4-4E27-BD7C-4C9EDE49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9DFA-B932-4BE6-909F-B21D428F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F53E-9968-4DC0-8A1D-5645AE123370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reeform 9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B072-4253-45B7-A963-130CEFBE0A71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B211-AE9D-43F4-8EC5-87062A157AE1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08D8-3E1C-45FE-9BA7-35D09F1BD79F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9B11-62B9-4367-BA4E-3E640E45BABD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6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5465-4021-4D88-BE77-9E69C032EC0C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Рисунок 3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Рисунок 5" descr=""/>
          <p:cNvPicPr/>
          <p:nvPr/>
        </p:nvPicPr>
        <p:blipFill>
          <a:blip r:embed="rId2"/>
          <a:stretch/>
        </p:blipFill>
        <p:spPr>
          <a:xfrm>
            <a:off x="284040" y="182520"/>
            <a:ext cx="428760" cy="579600"/>
          </a:xfrm>
          <a:prstGeom prst="rect">
            <a:avLst/>
          </a:prstGeom>
          <a:ln w="0">
            <a:noFill/>
          </a:ln>
        </p:spPr>
      </p:pic>
      <p:sp>
        <p:nvSpPr>
          <p:cNvPr id="258" name="TextBox 13"/>
          <p:cNvSpPr/>
          <p:nvPr/>
        </p:nvSpPr>
        <p:spPr>
          <a:xfrm>
            <a:off x="762120" y="2887560"/>
            <a:ext cx="8076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ФФСН №47 «Сведения о сети и деятельности медицинских организаций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Несветайло Н.Я.</a:t>
            </a:r>
            <a:br>
              <a:rPr sz="24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оугольник 15"/>
          <p:cNvSpPr/>
          <p:nvPr/>
        </p:nvSpPr>
        <p:spPr>
          <a:xfrm>
            <a:off x="914400" y="18252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tserrat"/>
              </a:rPr>
              <a:t>Центральный научно-исследовательский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tserrat"/>
              </a:rPr>
              <a:t>институт организации и информатизации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tserrat"/>
              </a:rPr>
              <a:t>здравоохранения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оугольник 23"/>
          <p:cNvSpPr/>
          <p:nvPr/>
        </p:nvSpPr>
        <p:spPr>
          <a:xfrm>
            <a:off x="284040" y="5680080"/>
            <a:ext cx="457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c5e53"/>
                </a:solidFill>
                <a:latin typeface="Montserrat SemiBold"/>
              </a:rPr>
              <a:t>www.mednet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08"/>
          <p:cNvSpPr/>
          <p:nvPr/>
        </p:nvSpPr>
        <p:spPr>
          <a:xfrm>
            <a:off x="457200" y="457200"/>
            <a:ext cx="1523880" cy="3049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0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80880" y="990720"/>
          <a:ext cx="8458200" cy="4911480"/>
        </p:xfrm>
        <a:graphic>
          <a:graphicData uri="http://schemas.openxmlformats.org/drawingml/2006/table">
            <a:tbl>
              <a:tblPr/>
              <a:tblGrid>
                <a:gridCol w="2667240"/>
                <a:gridCol w="457200"/>
                <a:gridCol w="609480"/>
                <a:gridCol w="609480"/>
                <a:gridCol w="533520"/>
                <a:gridCol w="533520"/>
                <a:gridCol w="761760"/>
                <a:gridCol w="1295640"/>
                <a:gridCol w="990360"/>
              </a:tblGrid>
              <a:tr h="24408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(из гр.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к врачам, включая профилактические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без посещений к стоматологам и зубным врача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 подчин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а Р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женные в сельской местност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спансе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Центры,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ысоких медицинских технолог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.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ко-гене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ко-социальной реабили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ых  наркомани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.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иализирова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из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них сурдологические для де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2" name="Рисунок 6" descr=""/>
          <p:cNvPicPr/>
          <p:nvPr/>
        </p:nvPicPr>
        <p:blipFill>
          <a:blip r:embed="rId1"/>
          <a:stretch/>
        </p:blipFill>
        <p:spPr>
          <a:xfrm>
            <a:off x="8334360" y="228600"/>
            <a:ext cx="428760" cy="501480"/>
          </a:xfrm>
          <a:prstGeom prst="rect">
            <a:avLst/>
          </a:prstGeom>
          <a:ln w="0">
            <a:noFill/>
          </a:ln>
        </p:spPr>
      </p:pic>
      <p:sp>
        <p:nvSpPr>
          <p:cNvPr id="323" name="TextBox 1"/>
          <p:cNvSpPr/>
          <p:nvPr/>
        </p:nvSpPr>
        <p:spPr>
          <a:xfrm>
            <a:off x="4201200" y="45720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Внимание! Измен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Прямоугольник: скругленные углы 1"/>
          <p:cNvSpPr/>
          <p:nvPr/>
        </p:nvSpPr>
        <p:spPr>
          <a:xfrm>
            <a:off x="3657600" y="1990800"/>
            <a:ext cx="4983120" cy="116532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По строке 6 «Диспансеры» указываются сведения о диспансерах, оказывающих медицинскую помощь </a:t>
            </a:r>
            <a:r>
              <a:rPr b="1" lang="ru-RU" sz="1800" spc="-1" strike="noStrike" u="sng">
                <a:solidFill>
                  <a:srgbClr val="990033"/>
                </a:solidFill>
                <a:uFillTx/>
                <a:latin typeface="Calibri"/>
              </a:rPr>
              <a:t>только</a:t>
            </a: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 в амбулаторных услови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Прямоугольник: скругленные углы 2"/>
          <p:cNvSpPr/>
          <p:nvPr/>
        </p:nvSpPr>
        <p:spPr>
          <a:xfrm>
            <a:off x="3657600" y="3336840"/>
            <a:ext cx="498312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По строкам 7-21 указываются сведения о центрах, оказывающих медицинскую помощь </a:t>
            </a:r>
            <a:r>
              <a:rPr b="1" lang="ru-RU" sz="1800" spc="-1" strike="noStrike" u="sng">
                <a:solidFill>
                  <a:srgbClr val="990033"/>
                </a:solidFill>
                <a:uFillTx/>
                <a:latin typeface="Calibri"/>
              </a:rPr>
              <a:t>только</a:t>
            </a: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 в амбулаторных услови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Прямоугольник: скругленные углы 3"/>
          <p:cNvSpPr/>
          <p:nvPr/>
        </p:nvSpPr>
        <p:spPr>
          <a:xfrm>
            <a:off x="3657600" y="4403880"/>
            <a:ext cx="4983120" cy="131112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Если строка 7</a:t>
            </a:r>
            <a:r>
              <a:rPr b="1" lang="en-US" sz="1800" spc="-1" strike="noStrike">
                <a:solidFill>
                  <a:srgbClr val="990033"/>
                </a:solidFill>
                <a:latin typeface="Tw Cen MT"/>
              </a:rPr>
              <a:t> </a:t>
            </a: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 больше суммы строк </a:t>
            </a:r>
            <a:r>
              <a:rPr b="1" lang="en-US" sz="1800" spc="-1" strike="noStrike">
                <a:solidFill>
                  <a:srgbClr val="990033"/>
                </a:solidFill>
                <a:latin typeface="Tw Cen MT"/>
              </a:rPr>
              <a:t>c </a:t>
            </a: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8 по 14, с 15 по 21 за счет «прочих» центров, непоименованных в боковике таблицы (разницу пояснить) – есть строка –специализированные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Стрелка: вниз 4"/>
          <p:cNvSpPr/>
          <p:nvPr/>
        </p:nvSpPr>
        <p:spPr>
          <a:xfrm rot="6678600">
            <a:off x="2618280" y="5305680"/>
            <a:ext cx="485640" cy="151956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d4f5f7"/>
          </a:solidFill>
          <a:ln w="15840">
            <a:solidFill>
              <a:srgbClr val="2683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Прямоугольник: скругленные углы 5"/>
          <p:cNvSpPr/>
          <p:nvPr/>
        </p:nvSpPr>
        <p:spPr>
          <a:xfrm>
            <a:off x="3657600" y="5867280"/>
            <a:ext cx="4971960" cy="533520"/>
          </a:xfrm>
          <a:prstGeom prst="roundRect">
            <a:avLst>
              <a:gd name="adj" fmla="val 16667"/>
            </a:avLst>
          </a:prstGeom>
          <a:solidFill>
            <a:srgbClr val="d4f5f7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6295"/>
                </a:solidFill>
                <a:latin typeface="Calibri"/>
              </a:rPr>
              <a:t>Введен новый тип медицинской орган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Рисунок 3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330" name="Прямоугольник 4"/>
          <p:cNvSpPr/>
          <p:nvPr/>
        </p:nvSpPr>
        <p:spPr>
          <a:xfrm>
            <a:off x="103320" y="0"/>
            <a:ext cx="9040680" cy="7300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Рисунок 5" descr=""/>
          <p:cNvPicPr/>
          <p:nvPr/>
        </p:nvPicPr>
        <p:blipFill>
          <a:blip r:embed="rId2"/>
          <a:stretch/>
        </p:blipFill>
        <p:spPr>
          <a:xfrm>
            <a:off x="8562960" y="114480"/>
            <a:ext cx="428760" cy="501480"/>
          </a:xfrm>
          <a:prstGeom prst="rect">
            <a:avLst/>
          </a:prstGeom>
          <a:ln w="0">
            <a:noFill/>
          </a:ln>
        </p:spPr>
      </p:pic>
      <p:sp>
        <p:nvSpPr>
          <p:cNvPr id="332" name="Прямоугольник: скругленные углы 1"/>
          <p:cNvSpPr/>
          <p:nvPr/>
        </p:nvSpPr>
        <p:spPr>
          <a:xfrm>
            <a:off x="2895480" y="2665440"/>
            <a:ext cx="566748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I. ДНЕВНЫЕ СТАЦИОНАРЫ ПО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ИПАМ МЕДИЦИНСКИХ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Прямоугольник: скругленные углы 2"/>
          <p:cNvSpPr/>
          <p:nvPr/>
        </p:nvSpPr>
        <p:spPr>
          <a:xfrm>
            <a:off x="6400800" y="4191120"/>
            <a:ext cx="216216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аблица 0650-06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8"/>
          <p:cNvSpPr/>
          <p:nvPr/>
        </p:nvSpPr>
        <p:spPr>
          <a:xfrm>
            <a:off x="380880" y="457200"/>
            <a:ext cx="1600200" cy="3049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06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325"/>
          <p:cNvSpPr/>
          <p:nvPr/>
        </p:nvSpPr>
        <p:spPr>
          <a:xfrm>
            <a:off x="5511960" y="72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304920" y="838080"/>
          <a:ext cx="8686800" cy="5181840"/>
        </p:xfrm>
        <a:graphic>
          <a:graphicData uri="http://schemas.openxmlformats.org/drawingml/2006/table">
            <a:tbl>
              <a:tblPr/>
              <a:tblGrid>
                <a:gridCol w="1752480"/>
                <a:gridCol w="380880"/>
                <a:gridCol w="1371600"/>
                <a:gridCol w="1447920"/>
                <a:gridCol w="1523880"/>
                <a:gridCol w="1067040"/>
                <a:gridCol w="1143000"/>
              </a:tblGrid>
              <a:tr h="42660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имеющие дневные стациона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r>
                        <a:rPr b="1" lang="ru-RU" sz="12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</a:rPr>
                        <a:t>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e3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х стациона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евые, республиканские, областные, окружные больн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краевые, республиканские,  областные, окружные больн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ие больн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городские больн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ие больницы скорой медицинской помощ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,,,,,,,,,,,,,,,,,,,,,,,,,,,,,,,,,,,,,,,,,,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едицинские организации, оказывающие только платны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" name="TextBox 3"/>
          <p:cNvSpPr/>
          <p:nvPr/>
        </p:nvSpPr>
        <p:spPr>
          <a:xfrm>
            <a:off x="4667760" y="45720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</a:rPr>
              <a:t>Внимание! Изменения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Прямоугольник: скругленные углы 1"/>
          <p:cNvSpPr/>
          <p:nvPr/>
        </p:nvSpPr>
        <p:spPr>
          <a:xfrm>
            <a:off x="2590920" y="2438280"/>
            <a:ext cx="6095880" cy="533520"/>
          </a:xfrm>
          <a:prstGeom prst="roundRect">
            <a:avLst>
              <a:gd name="adj" fmla="val 16667"/>
            </a:avLst>
          </a:prstGeom>
          <a:solidFill>
            <a:srgbClr val="d9f1ea"/>
          </a:solidFill>
          <a:ln w="15840">
            <a:solidFill>
              <a:srgbClr val="2e66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 графе 3 указать число медицинских организаций, имеющих дневные стационары при</a:t>
            </a:r>
            <a:r>
              <a:rPr b="1" lang="en-US" sz="18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тационар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Прямоугольник: скругленные углы 3"/>
          <p:cNvSpPr/>
          <p:nvPr/>
        </p:nvSpPr>
        <p:spPr>
          <a:xfrm>
            <a:off x="2590920" y="3162240"/>
            <a:ext cx="609588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 графе 3 может быть меньше сумме граф 4+5, так как медицинская организация может иметь и дневной стационар для взрослых, и дневной стационар для дет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Прямоугольник: скругленные углы 4"/>
          <p:cNvSpPr/>
          <p:nvPr/>
        </p:nvSpPr>
        <p:spPr>
          <a:xfrm>
            <a:off x="2593800" y="4794120"/>
            <a:ext cx="6096240" cy="9144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2e66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именование – «хозрасчетные…» измене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1" name="Прямая со стрелкой 6"/>
          <p:cNvCxnSpPr/>
          <p:nvPr/>
        </p:nvCxnSpPr>
        <p:spPr>
          <a:xfrm flipH="1">
            <a:off x="1981080" y="5250960"/>
            <a:ext cx="603720" cy="235800"/>
          </a:xfrm>
          <a:prstGeom prst="straightConnector1">
            <a:avLst/>
          </a:prstGeom>
          <a:ln w="34920">
            <a:solidFill>
              <a:srgbClr val="2e663e"/>
            </a:solidFill>
            <a:miter/>
            <a:tailEnd len="med" type="triangle" w="med"/>
          </a:ln>
        </p:spPr>
      </p:cxnSp>
      <p:sp>
        <p:nvSpPr>
          <p:cNvPr id="342" name="Прямоугольник 9"/>
          <p:cNvSpPr/>
          <p:nvPr/>
        </p:nvSpPr>
        <p:spPr>
          <a:xfrm>
            <a:off x="228600" y="6062760"/>
            <a:ext cx="8610480" cy="554040"/>
          </a:xfrm>
          <a:prstGeom prst="rect">
            <a:avLst/>
          </a:prstGeom>
          <a:solidFill>
            <a:srgbClr val="e0edec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0000"/>
                </a:solidFill>
                <a:latin typeface="Calibri"/>
              </a:rPr>
              <a:t>Дневные стационары, открытые в домах ребенка, санаториях показываются по строке 46 (пояснительная прилагается). Наличие лицензии обязательно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рямоугольник: скругленные углы 2"/>
          <p:cNvSpPr/>
          <p:nvPr/>
        </p:nvSpPr>
        <p:spPr>
          <a:xfrm>
            <a:off x="2286000" y="1143000"/>
            <a:ext cx="6324480" cy="18288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ОБЩЕЕ ЧИСЛО ВРАЧЕБНЫХ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ПОСЕЩЕНИЙ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КЛЮЧА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ЕЩ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 СТОМАТОЛОГАМ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ЗУБНЫМ ВРАЧ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Прямоугольник: скругленные углы 3"/>
          <p:cNvSpPr/>
          <p:nvPr/>
        </p:nvSpPr>
        <p:spPr>
          <a:xfrm>
            <a:off x="5943600" y="3505320"/>
            <a:ext cx="2590920" cy="121896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аблица 08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Прямоугольник 6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Рисунок 3" descr=""/>
          <p:cNvPicPr/>
          <p:nvPr/>
        </p:nvPicPr>
        <p:blipFill>
          <a:blip r:embed="rId1"/>
          <a:stretch/>
        </p:blipFill>
        <p:spPr>
          <a:xfrm>
            <a:off x="8319960" y="47520"/>
            <a:ext cx="428760" cy="5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380880" y="285840"/>
            <a:ext cx="1676520" cy="3808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аблица 08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2280" y="990720"/>
          <a:ext cx="8763120" cy="5740200"/>
        </p:xfrm>
        <a:graphic>
          <a:graphicData uri="http://schemas.openxmlformats.org/drawingml/2006/table">
            <a:tbl>
              <a:tblPr/>
              <a:tblGrid>
                <a:gridCol w="2638440"/>
                <a:gridCol w="471600"/>
                <a:gridCol w="547560"/>
                <a:gridCol w="1016280"/>
                <a:gridCol w="546120"/>
                <a:gridCol w="752400"/>
                <a:gridCol w="733320"/>
                <a:gridCol w="838080"/>
                <a:gridCol w="1219320"/>
              </a:tblGrid>
              <a:tr h="4572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число посещений к врач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3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ческ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аллиативной медицинской помощ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клиник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поликлин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ческие поликлиник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стоматологические поликлин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ие консульт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Амбулатории, поликлиники, оказывающие только платны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. организации особого тип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имеющие подразделения, оказывающие медицинскую помощь в амбулаторных условиях (входящие подразделения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6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(сумма строк 1 - 1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50" name="Line 309"/>
          <p:cNvSpPr/>
          <p:nvPr/>
        </p:nvSpPr>
        <p:spPr>
          <a:xfrm>
            <a:off x="2666880" y="6019920"/>
            <a:ext cx="83844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Box 1"/>
          <p:cNvSpPr/>
          <p:nvPr/>
        </p:nvSpPr>
        <p:spPr>
          <a:xfrm>
            <a:off x="6286680" y="3538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Внимание! Изменения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Прямоугольник: скругленные углы 1"/>
          <p:cNvSpPr/>
          <p:nvPr/>
        </p:nvSpPr>
        <p:spPr>
          <a:xfrm>
            <a:off x="3486240" y="2819520"/>
            <a:ext cx="525780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 таблицу включаются сведения о врачебных посещениях на основании данных, указанных в таблицах 2100, 2700 и 2105 ФФСН №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Прямоугольник: скругленные углы 2"/>
          <p:cNvSpPr/>
          <p:nvPr/>
        </p:nvSpPr>
        <p:spPr>
          <a:xfrm>
            <a:off x="3505320" y="5638680"/>
            <a:ext cx="5238720" cy="9144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строку 11 включаются посещения к врачам медицинских организаций, не указанных в строках с 1 по 10 таблицы, к врачам-стоматологам и зубным врачам санаторно-курортных и т.д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Прямоугольник: скругленные углы 3"/>
          <p:cNvSpPr/>
          <p:nvPr/>
        </p:nvSpPr>
        <p:spPr>
          <a:xfrm>
            <a:off x="3581280" y="4724280"/>
            <a:ext cx="5162760" cy="3049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alibri"/>
              </a:rPr>
              <a:t>Строка переименова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Прямая со стрелкой 5"/>
          <p:cNvCxnSpPr/>
          <p:nvPr/>
        </p:nvCxnSpPr>
        <p:spPr>
          <a:xfrm>
            <a:off x="2666520" y="4876560"/>
            <a:ext cx="839160" cy="1080"/>
          </a:xfrm>
          <a:prstGeom prst="straightConnector1">
            <a:avLst/>
          </a:prstGeom>
          <a:ln w="47520">
            <a:solidFill>
              <a:srgbClr val="1cade4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Рисунок 8" descr=""/>
          <p:cNvPicPr/>
          <p:nvPr/>
        </p:nvPicPr>
        <p:blipFill>
          <a:blip r:embed="rId1"/>
          <a:stretch/>
        </p:blipFill>
        <p:spPr>
          <a:xfrm>
            <a:off x="8610480" y="71280"/>
            <a:ext cx="428760" cy="50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7" name=""/>
          <p:cNvGraphicFramePr/>
          <p:nvPr/>
        </p:nvGraphicFramePr>
        <p:xfrm>
          <a:off x="152280" y="517680"/>
          <a:ext cx="8534520" cy="4462200"/>
        </p:xfrm>
        <a:graphic>
          <a:graphicData uri="http://schemas.openxmlformats.org/drawingml/2006/table">
            <a:tbl>
              <a:tblPr/>
              <a:tblGrid>
                <a:gridCol w="2795760"/>
                <a:gridCol w="376200"/>
                <a:gridCol w="561960"/>
                <a:gridCol w="1131840"/>
                <a:gridCol w="633600"/>
                <a:gridCol w="787320"/>
                <a:gridCol w="709560"/>
                <a:gridCol w="770040"/>
                <a:gridCol w="768240"/>
              </a:tblGrid>
              <a:tr h="152640">
                <a:tc rowSpan="3"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rowSpan="3">
                  <a:txBody>
                    <a:bodyPr lIns="27360" rIns="27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7360" marR="27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3"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число посещений к врач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-ческ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телями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аллиатив-ной меди-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нской помощ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5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348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………………………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348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(сумма строк 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6596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строка 12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медицинских организациях, </a:t>
                      </a: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расположенных в сельской мес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!!!!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3972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по подчиненност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 подч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26600">
                <a:tc>
                  <a:txBody>
                    <a:bodyPr lIns="51840" rIns="51840" tIns="0" bIns="0" anchor="ctr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у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348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348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, клиники вузов и 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58" name="Прямоугольник: скругленные углы 4"/>
          <p:cNvSpPr/>
          <p:nvPr/>
        </p:nvSpPr>
        <p:spPr>
          <a:xfrm>
            <a:off x="3429000" y="2209680"/>
            <a:ext cx="3505320" cy="2057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117ea7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Строка 13 гр.8 не должна быть ровна стр.12 гр.8+стр.17 гр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Строка 13 по всем графам должна соответствовать ф.30-село, т.е. включать посещения зубных врач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Прямоугольник: скругленные углы 5"/>
          <p:cNvSpPr/>
          <p:nvPr/>
        </p:nvSpPr>
        <p:spPr>
          <a:xfrm>
            <a:off x="914400" y="5486400"/>
            <a:ext cx="7238880" cy="2286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гр.4,5 включаем данные из таблицы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Рисунок 5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: скругленные углы 1"/>
          <p:cNvSpPr/>
          <p:nvPr/>
        </p:nvSpPr>
        <p:spPr>
          <a:xfrm>
            <a:off x="2438280" y="2057400"/>
            <a:ext cx="640080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ДЕЛ 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X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СТОМАТОЛОГИЧЕСКА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ПОМОЩ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Прямоугольник: скругленные углы 2"/>
          <p:cNvSpPr/>
          <p:nvPr/>
        </p:nvSpPr>
        <p:spPr>
          <a:xfrm>
            <a:off x="6095880" y="3581280"/>
            <a:ext cx="266724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аблица 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9"/>
          <p:cNvSpPr/>
          <p:nvPr/>
        </p:nvSpPr>
        <p:spPr>
          <a:xfrm>
            <a:off x="380880" y="228600"/>
            <a:ext cx="1600200" cy="3808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517680" y="685800"/>
          <a:ext cx="8534160" cy="5699160"/>
        </p:xfrm>
        <a:graphic>
          <a:graphicData uri="http://schemas.openxmlformats.org/drawingml/2006/table">
            <a:tbl>
              <a:tblPr/>
              <a:tblGrid>
                <a:gridCol w="2476440"/>
                <a:gridCol w="368280"/>
                <a:gridCol w="552240"/>
                <a:gridCol w="870120"/>
                <a:gridCol w="711000"/>
                <a:gridCol w="632160"/>
                <a:gridCol w="711000"/>
                <a:gridCol w="631800"/>
                <a:gridCol w="633600"/>
                <a:gridCol w="947520"/>
              </a:tblGrid>
              <a:tr h="1463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bd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3): расположенных в сельской мес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bd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ждалось в сан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р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курсов профилак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осещения к врачам амбулаторного приема (кроме стоматологов и зубных врачей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bdb"/>
                    </a:solidFill>
                  </a:tcPr>
                </a:tc>
              </a:tr>
              <a:tr h="3031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bdb"/>
                    </a:solidFill>
                  </a:tcPr>
                </a:tc>
              </a:tr>
              <a:tr h="27468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ческие поликлини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стоматологические поликли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томатологические поликлиники, оказывающие только платны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148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имеющие стоматологические и  ортопедические подразделения, отделения, кабине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1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медицинские организации</a:t>
                      </a: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, имеющие только ортопедические подраздел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отделения, кабинет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65" name="TextBox 1"/>
          <p:cNvSpPr/>
          <p:nvPr/>
        </p:nvSpPr>
        <p:spPr>
          <a:xfrm>
            <a:off x="4862520" y="114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имание! Изменения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Прямоугольник: скругленные углы 1"/>
          <p:cNvSpPr/>
          <p:nvPr/>
        </p:nvSpPr>
        <p:spPr>
          <a:xfrm>
            <a:off x="3505320" y="2516040"/>
            <a:ext cx="5257800" cy="83844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 графе 3 строках 1-3 указывается числ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медицинских организаций стоматологическог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профил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Прямоугольник: скругленные углы 2"/>
          <p:cNvSpPr/>
          <p:nvPr/>
        </p:nvSpPr>
        <p:spPr>
          <a:xfrm>
            <a:off x="3581280" y="3732120"/>
            <a:ext cx="5181840" cy="122076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487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 графе 3 строках 4-5 указывается числ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медицинских организаций, имеющ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томатологические и ортопедические подразделения</a:t>
            </a:r>
            <a:r>
              <a:rPr b="1" lang="en-US" sz="16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(отделения, кабинеты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Прямоугольник: скругленные углы 3"/>
          <p:cNvSpPr/>
          <p:nvPr/>
        </p:nvSpPr>
        <p:spPr>
          <a:xfrm>
            <a:off x="3581280" y="5230800"/>
            <a:ext cx="5181840" cy="9144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В строку 4 включаются сведения п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санаторно-курортным организациям, домам ребен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Прямая со стрелкой 5"/>
          <p:cNvCxnSpPr/>
          <p:nvPr/>
        </p:nvCxnSpPr>
        <p:spPr>
          <a:xfrm flipV="1">
            <a:off x="3352320" y="4495320"/>
            <a:ext cx="229320" cy="15336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187200" y="946080"/>
          <a:ext cx="8839440" cy="4362480"/>
        </p:xfrm>
        <a:graphic>
          <a:graphicData uri="http://schemas.openxmlformats.org/drawingml/2006/table">
            <a:tbl>
              <a:tblPr/>
              <a:tblGrid>
                <a:gridCol w="1905120"/>
                <a:gridCol w="457200"/>
                <a:gridCol w="685800"/>
                <a:gridCol w="914400"/>
                <a:gridCol w="914400"/>
                <a:gridCol w="838080"/>
                <a:gridCol w="1143000"/>
                <a:gridCol w="914400"/>
                <a:gridCol w="1067040"/>
              </a:tblGrid>
              <a:tr h="1219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з них (из гр.3): расположенных в сельской мес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исло посеще-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bd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ужда- лось в сан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аниро-в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курсов профилак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4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32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ческие поликлиники по подчиненности  (из стр.1+2+3): федерального подчи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у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34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Кроме того, клиники Вузов и 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1" name="Rectangle 29"/>
          <p:cNvSpPr/>
          <p:nvPr/>
        </p:nvSpPr>
        <p:spPr>
          <a:xfrm>
            <a:off x="457200" y="433440"/>
            <a:ext cx="1600200" cy="380880"/>
          </a:xfrm>
          <a:prstGeom prst="rect">
            <a:avLst/>
          </a:prstGeom>
          <a:solidFill>
            <a:srgbClr val="d4e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Прямоугольник: скругленные углы 1"/>
          <p:cNvSpPr/>
          <p:nvPr/>
        </p:nvSpPr>
        <p:spPr>
          <a:xfrm>
            <a:off x="2666880" y="2529000"/>
            <a:ext cx="6019920" cy="12366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Число посещений по графе 5 сумме строк 6+10 должно быть равно сумме посещений, указанных в ФФСН №30, таблице 2100 (сумма строк с 87 по 91) в графах 3 и 9, а также  таблице 2700 по строке 1, графе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Прямоугольник: скругленные углы 2"/>
          <p:cNvSpPr/>
          <p:nvPr/>
        </p:nvSpPr>
        <p:spPr>
          <a:xfrm>
            <a:off x="3048120" y="228600"/>
            <a:ext cx="5943600" cy="58248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Графы 6-9 заполняются по данным таблиц 2700 и 2710  ФФСН №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Значения, указанные в графе 7 должны быть не меньше, чем в графе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Прямоугольник: скругленные углы 3"/>
          <p:cNvSpPr/>
          <p:nvPr/>
        </p:nvSpPr>
        <p:spPr>
          <a:xfrm>
            <a:off x="187200" y="5510160"/>
            <a:ext cx="880452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 строке 10 показываем деятельность клиник Вузов и НИИ как самостоятельных (все графы), так и имеющих стоматологические кабинеты ( графы 5-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анные в строку 7 показываем только клиники Вузов и НИИ юридические лица. Деятельность клиник Вузов и НИИ, не юридических лиц, остается в строке 10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Прямоугольник: скругленные углы 4"/>
          <p:cNvSpPr/>
          <p:nvPr/>
        </p:nvSpPr>
        <p:spPr>
          <a:xfrm>
            <a:off x="2743200" y="3987720"/>
            <a:ext cx="6019920" cy="1201680"/>
          </a:xfrm>
          <a:prstGeom prst="roundRect">
            <a:avLst>
              <a:gd name="adj" fmla="val 16667"/>
            </a:avLst>
          </a:prstGeom>
          <a:solidFill>
            <a:srgbClr val="dfe3e5"/>
          </a:solidFill>
          <a:ln w="15840">
            <a:solidFill>
              <a:srgbClr val="487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Сумма строк 1, 2, 3, 10 должна быть равна сумме строк 7, 8, 9 </a:t>
            </a:r>
            <a:r>
              <a:rPr b="1" lang="ru-RU" sz="1800" spc="-1" strike="noStrike" u="sng">
                <a:solidFill>
                  <a:srgbClr val="990033"/>
                </a:solidFill>
                <a:uFillTx/>
                <a:latin typeface="Calibri"/>
              </a:rPr>
              <a:t>только в случае</a:t>
            </a: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 если Клиники ВУЗов и НИИ являются организациями стоматологического профил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9"/>
          <p:cNvSpPr/>
          <p:nvPr/>
        </p:nvSpPr>
        <p:spPr>
          <a:xfrm>
            <a:off x="380880" y="457200"/>
            <a:ext cx="1600200" cy="380880"/>
          </a:xfrm>
          <a:prstGeom prst="rect">
            <a:avLst/>
          </a:prstGeom>
          <a:solidFill>
            <a:srgbClr val="c6c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1143000"/>
          <a:ext cx="8001000" cy="4640400"/>
        </p:xfrm>
        <a:graphic>
          <a:graphicData uri="http://schemas.openxmlformats.org/drawingml/2006/table">
            <a:tbl>
              <a:tblPr/>
              <a:tblGrid>
                <a:gridCol w="4435560"/>
                <a:gridCol w="714240"/>
                <a:gridCol w="1430280"/>
                <a:gridCol w="1420920"/>
              </a:tblGrid>
              <a:tr h="1335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курсов профилак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сещения к врачам амбулаторного приема (кроме стоматологов и зубных враче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</a:tr>
              <a:tr h="3045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</a:tr>
              <a:tr h="2970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ческие поликлини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</a:tr>
              <a:tr h="4446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стоматологические поликли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томатологические поликлиники, оказывающие только платны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имеющие стоматологические и  ортопедические подразделения, отделения, кабине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медицинские организации</a:t>
                      </a: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, имеющие только ортопедические подраздел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отделения, кабинет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70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8" name="TextBox 1"/>
          <p:cNvSpPr/>
          <p:nvPr/>
        </p:nvSpPr>
        <p:spPr>
          <a:xfrm>
            <a:off x="457200" y="4738680"/>
            <a:ext cx="6553080" cy="17989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сещения врачей амбулаторного прима (не стоматологического профиля) в т.1000 показываются в графе 10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то могут быть врачи – члх, аллергологи, педиатры, оториноларингологи и т.д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медицинских организациях стоматологического профиля должна быть лиценз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х необходимо включить в табл.800 по соответствующим строкам в гр. 4 (амбулаторные условия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Рисунок 4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380" name="Прямоугольник: скругленные углы 2"/>
          <p:cNvSpPr/>
          <p:nvPr/>
        </p:nvSpPr>
        <p:spPr>
          <a:xfrm>
            <a:off x="5105520" y="3527280"/>
            <a:ext cx="2133360" cy="609840"/>
          </a:xfrm>
          <a:prstGeom prst="roundRect">
            <a:avLst>
              <a:gd name="adj" fmla="val 16667"/>
            </a:avLst>
          </a:prstGeom>
          <a:solidFill>
            <a:srgbClr val="dfe3e5"/>
          </a:solidFill>
          <a:ln w="15840">
            <a:solidFill>
              <a:srgbClr val="487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трока 3 переименова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Прямая со стрелкой 4"/>
          <p:cNvCxnSpPr>
            <a:stCxn id="380" idx="1"/>
          </p:cNvCxnSpPr>
          <p:nvPr/>
        </p:nvCxnSpPr>
        <p:spPr>
          <a:xfrm flipH="1">
            <a:off x="4647960" y="3831840"/>
            <a:ext cx="457920" cy="1080"/>
          </a:xfrm>
          <a:prstGeom prst="straightConnector1">
            <a:avLst/>
          </a:prstGeom>
          <a:ln w="38160">
            <a:solidFill>
              <a:srgbClr val="487b78"/>
            </a:solidFill>
            <a:miter/>
            <a:tailEnd len="med" type="triangle" w="med"/>
          </a:ln>
        </p:spPr>
      </p:cxnSp>
      <p:cxnSp>
        <p:nvCxnSpPr>
          <p:cNvPr id="382" name="Прямая со стрелкой 14"/>
          <p:cNvCxnSpPr/>
          <p:nvPr/>
        </p:nvCxnSpPr>
        <p:spPr>
          <a:xfrm flipV="1">
            <a:off x="7010280" y="4190760"/>
            <a:ext cx="991440" cy="2057760"/>
          </a:xfrm>
          <a:prstGeom prst="straightConnector1">
            <a:avLst/>
          </a:prstGeom>
          <a:ln w="31680">
            <a:solidFill>
              <a:srgbClr val="487b78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Рисунок 3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Рисунок 5" descr=""/>
          <p:cNvPicPr/>
          <p:nvPr/>
        </p:nvPicPr>
        <p:blipFill>
          <a:blip r:embed="rId2"/>
          <a:stretch/>
        </p:blipFill>
        <p:spPr>
          <a:xfrm>
            <a:off x="8443800" y="146160"/>
            <a:ext cx="428760" cy="579240"/>
          </a:xfrm>
          <a:prstGeom prst="rect">
            <a:avLst/>
          </a:prstGeom>
          <a:ln w="0">
            <a:noFill/>
          </a:ln>
        </p:spPr>
      </p:pic>
      <p:sp>
        <p:nvSpPr>
          <p:cNvPr id="265" name="TextBox 13"/>
          <p:cNvSpPr/>
          <p:nvPr/>
        </p:nvSpPr>
        <p:spPr>
          <a:xfrm>
            <a:off x="762120" y="288756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Прямоугольник 2"/>
          <p:cNvSpPr/>
          <p:nvPr/>
        </p:nvSpPr>
        <p:spPr>
          <a:xfrm>
            <a:off x="2284560" y="1357200"/>
            <a:ext cx="655308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I. ЛЕЧЕБНО-ПРОФИЛАКТИЧЕСК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МЕДИЦИНСКИЕ ОРГАНИЗАЦИИ 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МЕДИЦИНСКИЕ ОРГАНИЗАЦИ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ОСОБОГО ТИПА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КАЗЫВАЮЩИ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ДИЦИНСКУЮ ПОМОЩ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АЦИОНАРНЫХ И АМБУЛАТОРНЫХ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                УСЛОВИЯХ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аблица 010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Рисунок 3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: скругленные углы 1"/>
          <p:cNvSpPr/>
          <p:nvPr/>
        </p:nvSpPr>
        <p:spPr>
          <a:xfrm>
            <a:off x="1371600" y="2590920"/>
            <a:ext cx="708660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ДЕЛ 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XI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I. ТЕХНИЧЕСКОЕ СОСТОЯНИЕ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ЗДАНИЙ МЕДИЦИНСКИХ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ОРГАНИЗ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Прямоугольник: скругленные углы 2"/>
          <p:cNvSpPr/>
          <p:nvPr/>
        </p:nvSpPr>
        <p:spPr>
          <a:xfrm>
            <a:off x="5943600" y="42670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аблица 1200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76320" y="731880"/>
          <a:ext cx="8839080" cy="5440320"/>
        </p:xfrm>
        <a:graphic>
          <a:graphicData uri="http://schemas.openxmlformats.org/drawingml/2006/table">
            <a:tbl>
              <a:tblPr/>
              <a:tblGrid>
                <a:gridCol w="1371600"/>
                <a:gridCol w="533160"/>
                <a:gridCol w="762120"/>
                <a:gridCol w="762120"/>
                <a:gridCol w="990360"/>
                <a:gridCol w="762120"/>
                <a:gridCol w="762120"/>
                <a:gridCol w="1066680"/>
                <a:gridCol w="914400"/>
                <a:gridCol w="914400"/>
              </a:tblGrid>
              <a:tr h="49536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дицински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Число медицински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зданий в них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площадь зданий (кв.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дятся в аварийном состоянии, требуют сно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 реко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 капитального ремон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находя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испособленных помещен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рендованных помещен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2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 CYR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87b7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87b7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68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евые, республиканские, областные, окружные больни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72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краевые, республиканские  областные, окружные больни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8" name="Rectangle 29"/>
          <p:cNvSpPr/>
          <p:nvPr/>
        </p:nvSpPr>
        <p:spPr>
          <a:xfrm>
            <a:off x="457200" y="152280"/>
            <a:ext cx="1600200" cy="38124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Рисунок 10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390" name="Прямоугольник: скругленные углы 2"/>
          <p:cNvSpPr/>
          <p:nvPr/>
        </p:nvSpPr>
        <p:spPr>
          <a:xfrm>
            <a:off x="2057400" y="3124080"/>
            <a:ext cx="6705720" cy="304812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Графа 3 не может быть больше графы 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Графа 4 должна быть больше суммы граф с 5 по 7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Графа 4 может быть больше суммы граф 8 и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дно и тоже здание не может быть проставлено и в 5, и в 6, и в 7 графа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рафа 4 не может быть меньше любой из граф с 10 по 16 (виды благоустройств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228600" y="914400"/>
          <a:ext cx="8763120" cy="5199120"/>
        </p:xfrm>
        <a:graphic>
          <a:graphicData uri="http://schemas.openxmlformats.org/drawingml/2006/table">
            <a:tbl>
              <a:tblPr/>
              <a:tblGrid>
                <a:gridCol w="1371600"/>
                <a:gridCol w="457200"/>
                <a:gridCol w="1066680"/>
                <a:gridCol w="762120"/>
                <a:gridCol w="887400"/>
                <a:gridCol w="636480"/>
                <a:gridCol w="762120"/>
                <a:gridCol w="1066680"/>
                <a:gridCol w="1087560"/>
                <a:gridCol w="665280"/>
              </a:tblGrid>
              <a:tr h="27432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дицински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т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исло медицински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зданий в них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площадь зданий (кв.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дятся в аварийном состоянии, требуют сно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 реко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 капитального ремон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находя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испособленных помещен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рендованных помещен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6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кли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поликли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6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оказывающие толь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латные медицински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3" name="Rectangle 29"/>
          <p:cNvSpPr/>
          <p:nvPr/>
        </p:nvSpPr>
        <p:spPr>
          <a:xfrm>
            <a:off x="457200" y="457200"/>
            <a:ext cx="1600200" cy="3808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Box 1"/>
          <p:cNvSpPr/>
          <p:nvPr/>
        </p:nvSpPr>
        <p:spPr>
          <a:xfrm>
            <a:off x="2133720" y="5743440"/>
            <a:ext cx="6629400" cy="3682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Строка 22 переименова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Box 2"/>
          <p:cNvSpPr/>
          <p:nvPr/>
        </p:nvSpPr>
        <p:spPr>
          <a:xfrm>
            <a:off x="5715000" y="490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Внимание! Изменения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Рисунок 8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397" name="Прямоугольник: скругленные углы 2"/>
          <p:cNvSpPr/>
          <p:nvPr/>
        </p:nvSpPr>
        <p:spPr>
          <a:xfrm>
            <a:off x="2209680" y="2743200"/>
            <a:ext cx="6553440" cy="266688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трока 19 заполняется по медицинским организациям, оказывающим медицинскую помощь в амбулаторных условиях, указанных по строке 2 таблицы 0600, а также стоматологическим поликлиникам, указанным по строке 1 таблицы 10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7b78"/>
                </a:solidFill>
                <a:latin typeface="Calibri"/>
              </a:rPr>
              <a:t>Строка 20 заполняется по медицинским организациям, оказывающим медицинскую помощь в амбулаторных условиях, указанных по строке 3 таблицы 0600, а также стоматологическим поликлиникам, указанным по строке 2 таблицы 10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228600" y="1066680"/>
          <a:ext cx="8763120" cy="3713400"/>
        </p:xfrm>
        <a:graphic>
          <a:graphicData uri="http://schemas.openxmlformats.org/drawingml/2006/table">
            <a:tbl>
              <a:tblPr/>
              <a:tblGrid>
                <a:gridCol w="1477800"/>
                <a:gridCol w="351000"/>
                <a:gridCol w="838080"/>
                <a:gridCol w="685800"/>
                <a:gridCol w="838440"/>
                <a:gridCol w="685800"/>
                <a:gridCol w="990360"/>
                <a:gridCol w="762120"/>
                <a:gridCol w="990720"/>
                <a:gridCol w="1143000"/>
              </a:tblGrid>
              <a:tr h="27432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дицински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медицински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зданий в них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площадь зданий (кв.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дятся в аварийном состоянии, требуют снос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 реконструк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 капитального ремон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находят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испособленных помещен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рендованных помещен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5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особого ти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1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медицинские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0" name="Rectangle 29"/>
          <p:cNvSpPr/>
          <p:nvPr/>
        </p:nvSpPr>
        <p:spPr>
          <a:xfrm>
            <a:off x="457200" y="457200"/>
            <a:ext cx="1600200" cy="3808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Рисунок 6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: скругленные углы 1"/>
          <p:cNvSpPr/>
          <p:nvPr/>
        </p:nvSpPr>
        <p:spPr>
          <a:xfrm>
            <a:off x="596880" y="5181480"/>
            <a:ext cx="8305920" cy="157032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трока 24 должна быть равна сумме медицинских организаций, указанных в таблице 0400 по графе 3 строке 1, таблице 0450 графе 3 строке 1, таблице 0600 по графе 3 строке 23, таблица 1500 графа 3 строка 1, таблице 1600 графа 3 строка 1 и таблице 1600 графа 14 строка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Прямоугольник: скругленные углы 2"/>
          <p:cNvSpPr/>
          <p:nvPr/>
        </p:nvSpPr>
        <p:spPr>
          <a:xfrm>
            <a:off x="2182680" y="3048120"/>
            <a:ext cx="6705720" cy="160020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трока 23 должна быть равна сумме медицинских организаций, указанных в таблице 0100 по графе 3 строке 43, таблице 0600 по графе 3 строке 22 и таблице 1300 графе 3 строке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457200" y="457200"/>
            <a:ext cx="1676520" cy="30492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3"/>
          <p:cNvSpPr/>
          <p:nvPr/>
        </p:nvSpPr>
        <p:spPr>
          <a:xfrm>
            <a:off x="5511960" y="72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4"/>
          <p:cNvSpPr/>
          <p:nvPr/>
        </p:nvSpPr>
        <p:spPr>
          <a:xfrm>
            <a:off x="4375080" y="684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152280" y="944640"/>
          <a:ext cx="8686800" cy="4030560"/>
        </p:xfrm>
        <a:graphic>
          <a:graphicData uri="http://schemas.openxmlformats.org/drawingml/2006/table">
            <a:tbl>
              <a:tblPr/>
              <a:tblGrid>
                <a:gridCol w="3048120"/>
                <a:gridCol w="457200"/>
                <a:gridCol w="914400"/>
                <a:gridCol w="334800"/>
                <a:gridCol w="731880"/>
                <a:gridCol w="1447920"/>
                <a:gridCol w="1752480"/>
              </a:tblGrid>
              <a:tr h="24408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дицинских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медицинских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площадь зданий (кв.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Число медицинских организаций</a:t>
                      </a: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здания которых находятся в аварийном состоянии или требуют сноса, реконструкции, и капитального ремон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 CYR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 CYR"/>
                          <a:ea typeface="Times New Roman CYR"/>
                        </a:rPr>
                        <a:t>из них находящихся в аварийном состоянии, или требующих сноса, реконструкции и капитального ремон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 CYR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 CYR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 CYR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 CYR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 CYR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990033"/>
                          </a:solidFill>
                          <a:latin typeface="Times New Roman CYR"/>
                          <a:ea typeface="Times New Roman CYR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990033"/>
                          </a:solidFill>
                          <a:latin typeface="Times New Roman CYR"/>
                          <a:ea typeface="Times New Roman CYR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 CYR"/>
                        </a:rPr>
                        <a:t>из них: расположенные в сельской мес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(из суммы  строк 25+30): федер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у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клиники ВУЗов и 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8" name="TextBox 1"/>
          <p:cNvSpPr/>
          <p:nvPr/>
        </p:nvSpPr>
        <p:spPr>
          <a:xfrm>
            <a:off x="755640" y="5029200"/>
            <a:ext cx="80773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</a:rPr>
              <a:t>Данные стр.25 и стр.30 по графам 18 и 19 необходимо сверить с данными за 2020 года. Предоставить пояснительную записку с указанием отклонения по количеству медицинских организаций (гр.19) и площади (гр.18), заверенную ответственным специалистом органа управления субъекта Р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Общая площадь зданий указывается с 1 знаком после запят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Данные по строке 26 должны быть сверены с ф.30 сел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5-конечная звезда 2"/>
          <p:cNvSpPr/>
          <p:nvPr/>
        </p:nvSpPr>
        <p:spPr>
          <a:xfrm>
            <a:off x="291960" y="480060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9"/>
                </a:moveTo>
                <a:lnTo>
                  <a:pt x="174636" y="145530"/>
                </a:lnTo>
                <a:lnTo>
                  <a:pt x="228600" y="0"/>
                </a:lnTo>
                <a:lnTo>
                  <a:pt x="282564" y="145530"/>
                </a:lnTo>
                <a:lnTo>
                  <a:pt x="457200" y="145529"/>
                </a:lnTo>
                <a:lnTo>
                  <a:pt x="315916" y="235470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8" y="380999"/>
                </a:lnTo>
                <a:lnTo>
                  <a:pt x="141284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7ec492"/>
          </a:solidFill>
          <a:ln w="15840">
            <a:solidFill>
              <a:srgbClr val="117e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0" name="Прямая со стрелкой 3"/>
          <p:cNvCxnSpPr/>
          <p:nvPr/>
        </p:nvCxnSpPr>
        <p:spPr>
          <a:xfrm>
            <a:off x="749160" y="3428640"/>
            <a:ext cx="7200" cy="304884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triangle" w="med"/>
          </a:ln>
        </p:spPr>
      </p:cxnSp>
      <p:pic>
        <p:nvPicPr>
          <p:cNvPr id="411" name="Рисунок 9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: скругленные углы 1"/>
          <p:cNvSpPr/>
          <p:nvPr/>
        </p:nvSpPr>
        <p:spPr>
          <a:xfrm>
            <a:off x="3782880" y="2800440"/>
            <a:ext cx="5099040" cy="206676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графе 19 указыва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число организаций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имеющих здания, находящиеся в аварийном состоянии или требующие капитального ремон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оличество организаций, указанное в графе 19, необходимо согласовать с отделом главного инженера </a:t>
            </a:r>
            <a:r>
              <a:rPr b="1" lang="en-US" sz="1800" spc="-1" strike="noStrike">
                <a:solidFill>
                  <a:srgbClr val="c00000"/>
                </a:solidFill>
                <a:latin typeface="Tw Cen MT"/>
              </a:rPr>
              <a:t>(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ехнический отдел и т.д.) органа управления  в сфере охраны здоровья субъек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228600" y="1023840"/>
          <a:ext cx="8763120" cy="5114880"/>
        </p:xfrm>
        <a:graphic>
          <a:graphicData uri="http://schemas.openxmlformats.org/drawingml/2006/table">
            <a:tbl>
              <a:tblPr/>
              <a:tblGrid>
                <a:gridCol w="1946160"/>
                <a:gridCol w="392400"/>
                <a:gridCol w="556920"/>
                <a:gridCol w="533520"/>
                <a:gridCol w="533520"/>
                <a:gridCol w="533160"/>
                <a:gridCol w="762120"/>
                <a:gridCol w="533520"/>
                <a:gridCol w="609480"/>
                <a:gridCol w="838080"/>
                <a:gridCol w="533520"/>
                <a:gridCol w="457200"/>
                <a:gridCol w="533520"/>
              </a:tblGrid>
              <a:tr h="304920">
                <a:tc rowSpan="4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11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 круглогодичного функцион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йко-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</a:t>
                      </a: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оступивших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х (из гр. 6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у Р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е трудоспо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вали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(до 17 лет вкл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з них (из гр.9): детей-инвали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но-курортные организации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(сумма строк 2+11+12+13+14+15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3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ии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(сумма строк 3+6+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 -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 -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 с род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ии - профилактор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язелечебни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ортные поликлин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4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организаций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федерального подчин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14" name="Rectangle 4275"/>
          <p:cNvSpPr/>
          <p:nvPr/>
        </p:nvSpPr>
        <p:spPr>
          <a:xfrm>
            <a:off x="2666880" y="3200400"/>
            <a:ext cx="6096240" cy="3808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Графа 3 должна быть равна сумме граф 11+12+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4295"/>
          <p:cNvSpPr/>
          <p:nvPr/>
        </p:nvSpPr>
        <p:spPr>
          <a:xfrm>
            <a:off x="2666880" y="3733920"/>
            <a:ext cx="6086520" cy="99036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Распределение числа поступивших лиц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гр.6 – всего – гр.9 = взросл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гр.6 – гр.9-гр.7 = взрослые трудоспособного возрас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4296"/>
          <p:cNvSpPr/>
          <p:nvPr/>
        </p:nvSpPr>
        <p:spPr>
          <a:xfrm>
            <a:off x="2666880" y="5376960"/>
            <a:ext cx="6096240" cy="3808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Графа 10 показывается из графы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Рисунок 6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1"/>
          <p:cNvSpPr/>
          <p:nvPr/>
        </p:nvSpPr>
        <p:spPr>
          <a:xfrm>
            <a:off x="304920" y="138240"/>
            <a:ext cx="79246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Раздел 16. Лечебно-профилактические медицинские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санаторно-курортные организации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аблица 1600 - 161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Рисунок 3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20" name="Прямоугольник: скругленные углы 1"/>
          <p:cNvSpPr/>
          <p:nvPr/>
        </p:nvSpPr>
        <p:spPr>
          <a:xfrm>
            <a:off x="2368440" y="2209680"/>
            <a:ext cx="6048360" cy="167652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ШТАТНЫЕ И ЗАНЯТ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ЛЖНОСТИ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ИЗИЧЕСКИ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ИЦ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ТИПАМ МЕДИЦИНСКИ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Прямоугольник: скругленные углы 2"/>
          <p:cNvSpPr/>
          <p:nvPr/>
        </p:nvSpPr>
        <p:spPr>
          <a:xfrm>
            <a:off x="5791320" y="44956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аблица 1800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152280" y="762120"/>
          <a:ext cx="8839440" cy="5851440"/>
        </p:xfrm>
        <a:graphic>
          <a:graphicData uri="http://schemas.openxmlformats.org/drawingml/2006/table">
            <a:tbl>
              <a:tblPr/>
              <a:tblGrid>
                <a:gridCol w="3276720"/>
                <a:gridCol w="533520"/>
                <a:gridCol w="1927080"/>
                <a:gridCol w="1550880"/>
                <a:gridCol w="155124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 больниц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 скорой медицинской  помощ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переливания и центры кр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но-курортные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особого ти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оказывающие только платные медицински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медицинские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 (стр.1-2, 4-10, 16-19, 25, 2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медицинских организациях, расположенных в сельской мес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клиники ВУЗов и НИИ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а (стр. 27+30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организаций федерального подчи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а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23" name="Rectangle 108"/>
          <p:cNvSpPr/>
          <p:nvPr/>
        </p:nvSpPr>
        <p:spPr>
          <a:xfrm>
            <a:off x="457200" y="309600"/>
            <a:ext cx="1523880" cy="30492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</a:rPr>
              <a:t>1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Рисунок 6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25" name="TextBox 1"/>
          <p:cNvSpPr/>
          <p:nvPr/>
        </p:nvSpPr>
        <p:spPr>
          <a:xfrm>
            <a:off x="6030000" y="29376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Внимание! Изменения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Прямоугольник: скругленные углы 1"/>
          <p:cNvSpPr/>
          <p:nvPr/>
        </p:nvSpPr>
        <p:spPr>
          <a:xfrm>
            <a:off x="3962520" y="1616040"/>
            <a:ext cx="5029200" cy="140004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 строке 1 показываются данные по вс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рганизациям из таблицы 0100 строки 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без учета строк 6, 21, 25,  27, 42, 43, 44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оторые будут указаны в соответствующ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троках таблиц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Прямоугольник: скругленные углы 2"/>
          <p:cNvSpPr/>
          <p:nvPr/>
        </p:nvSpPr>
        <p:spPr>
          <a:xfrm>
            <a:off x="4114800" y="3336840"/>
            <a:ext cx="2286000" cy="29116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911680"/>
              <a:gd name="textAreaBottom" fmla="*/ 2800080 h 2911680"/>
            </a:gdLst>
            <a:ahLst/>
            <a:rect l="textAreaLeft" t="textAreaTop" r="textAreaRight" b="textAreaBottom"/>
            <a:pathLst>
              <a:path w="21600" h="27511">
                <a:moveTo>
                  <a:pt x="3600" y="0"/>
                </a:moveTo>
                <a:arcTo wR="3600" hR="3600" stAng="16200000" swAng="-5400000"/>
                <a:lnTo>
                  <a:pt x="0" y="23911"/>
                </a:lnTo>
                <a:arcTo wR="3600" hR="3600" stAng="10800000" swAng="-5400000"/>
                <a:lnTo>
                  <a:pt x="18000" y="275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строке 16 указываются данные тольк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анций скорой медицинской помощи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ведения по отделениям, входящим в состав других медицинских организаций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ключаются  в строки соответствующи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рганиз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Прямоугольник: скругленные углы 3"/>
          <p:cNvSpPr/>
          <p:nvPr/>
        </p:nvSpPr>
        <p:spPr>
          <a:xfrm>
            <a:off x="6521400" y="3336840"/>
            <a:ext cx="2398680" cy="2911680"/>
          </a:xfrm>
          <a:custGeom>
            <a:avLst/>
            <a:gdLst>
              <a:gd name="textAreaLeft" fmla="*/ 117000 w 2398680"/>
              <a:gd name="textAreaRight" fmla="*/ 2281680 w 2398680"/>
              <a:gd name="textAreaTop" fmla="*/ 117000 h 2911680"/>
              <a:gd name="textAreaBottom" fmla="*/ 2794680 h 2911680"/>
            </a:gdLst>
            <a:ahLst/>
            <a:rect l="textAreaLeft" t="textAreaTop" r="textAreaRight" b="textAreaBottom"/>
            <a:pathLst>
              <a:path w="21600" h="26219">
                <a:moveTo>
                  <a:pt x="3600" y="0"/>
                </a:moveTo>
                <a:arcTo wR="3600" hR="3600" stAng="16200000" swAng="-5400000"/>
                <a:lnTo>
                  <a:pt x="0" y="22619"/>
                </a:lnTo>
                <a:arcTo wR="3600" hR="3600" stAng="10800000" swAng="-5400000"/>
                <a:lnTo>
                  <a:pt x="18000" y="262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строке 17 указываются данные тольк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анций и центров переливания крови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ведения по отделениям, входящим в соста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ругих медицинских организаций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ключаются  в строки соответствующи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рганиз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Прямоугольник: скругленные углы 4"/>
          <p:cNvSpPr/>
          <p:nvPr/>
        </p:nvSpPr>
        <p:spPr>
          <a:xfrm>
            <a:off x="2666880" y="157320"/>
            <a:ext cx="2590920" cy="57276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трока 25 переименова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0" name=""/>
          <p:cNvGraphicFramePr/>
          <p:nvPr/>
        </p:nvGraphicFramePr>
        <p:xfrm>
          <a:off x="152280" y="762120"/>
          <a:ext cx="8839440" cy="5790960"/>
        </p:xfrm>
        <a:graphic>
          <a:graphicData uri="http://schemas.openxmlformats.org/drawingml/2006/table">
            <a:tbl>
              <a:tblPr/>
              <a:tblGrid>
                <a:gridCol w="3276720"/>
                <a:gridCol w="533520"/>
                <a:gridCol w="1927080"/>
                <a:gridCol w="1550880"/>
                <a:gridCol w="155124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 больниц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 скорой медицинской  помощ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переливания и центры кр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но-курортные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особого ти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оказывающие только платные медицински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медицинские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 (стр.1-2, 4-10, 16-19, 25, 2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8c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8c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медицинских организациях, расположенных в сельской мес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клиники ВУЗов и НИ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а (стр. 27+30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организаций федерального подчи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а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31" name="Rectangle 108"/>
          <p:cNvSpPr/>
          <p:nvPr/>
        </p:nvSpPr>
        <p:spPr>
          <a:xfrm>
            <a:off x="301680" y="76320"/>
            <a:ext cx="1523880" cy="30456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</a:rPr>
              <a:t>1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Рисунок 6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33" name="Прямоугольник: скругленные углы 1"/>
          <p:cNvSpPr/>
          <p:nvPr/>
        </p:nvSpPr>
        <p:spPr>
          <a:xfrm>
            <a:off x="4124160" y="1819440"/>
            <a:ext cx="4724640" cy="87624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трока 19 – медицинские организации особого типа, которые указаны в табл.0100 + табл.0600+ табл.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Прямоугольник: скругленные углы 3"/>
          <p:cNvSpPr/>
          <p:nvPr/>
        </p:nvSpPr>
        <p:spPr>
          <a:xfrm>
            <a:off x="4208400" y="3138480"/>
            <a:ext cx="4699080" cy="129528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умма строк 27+30 по графам 3, 4, 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должна быть равн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ФФСН №30, таблица 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трока 244 по графам 3, 4, 9 соответственн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Прямоугольник: скругленные углы 4"/>
          <p:cNvSpPr/>
          <p:nvPr/>
        </p:nvSpPr>
        <p:spPr>
          <a:xfrm>
            <a:off x="4241880" y="4815000"/>
            <a:ext cx="4572000" cy="16002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умма строк 31+32+33 по графам 3, 4, 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должна быть равн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ФФСН №30, таблица 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трока 243 по графам 3, 4, 9 соответственн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6" name="Прямая со стрелкой 6"/>
          <p:cNvCxnSpPr/>
          <p:nvPr/>
        </p:nvCxnSpPr>
        <p:spPr>
          <a:xfrm flipV="1">
            <a:off x="3276720" y="2437560"/>
            <a:ext cx="848160" cy="1220040"/>
          </a:xfrm>
          <a:prstGeom prst="straightConnector1">
            <a:avLst/>
          </a:prstGeom>
          <a:ln w="38160">
            <a:solidFill>
              <a:srgbClr val="487b78"/>
            </a:solidFill>
            <a:miter/>
            <a:tailEnd len="med" type="triangle" w="med"/>
          </a:ln>
        </p:spPr>
      </p:cxnSp>
      <p:cxnSp>
        <p:nvCxnSpPr>
          <p:cNvPr id="437" name="Прямая со стрелкой 9"/>
          <p:cNvCxnSpPr/>
          <p:nvPr/>
        </p:nvCxnSpPr>
        <p:spPr>
          <a:xfrm flipV="1">
            <a:off x="3962520" y="4433400"/>
            <a:ext cx="381600" cy="138960"/>
          </a:xfrm>
          <a:prstGeom prst="straightConnector1">
            <a:avLst/>
          </a:prstGeom>
          <a:ln w="31680">
            <a:solidFill>
              <a:srgbClr val="487b78"/>
            </a:solidFill>
            <a:miter/>
            <a:tailEnd len="med" type="triangle" w="med"/>
          </a:ln>
        </p:spPr>
      </p:cxnSp>
      <p:cxnSp>
        <p:nvCxnSpPr>
          <p:cNvPr id="438" name="Прямая со стрелкой 16"/>
          <p:cNvCxnSpPr/>
          <p:nvPr/>
        </p:nvCxnSpPr>
        <p:spPr>
          <a:xfrm flipV="1">
            <a:off x="3962520" y="4433040"/>
            <a:ext cx="381600" cy="748440"/>
          </a:xfrm>
          <a:prstGeom prst="straightConnector1">
            <a:avLst/>
          </a:prstGeom>
          <a:ln w="31680">
            <a:solidFill>
              <a:srgbClr val="487b78"/>
            </a:solidFill>
            <a:miter/>
            <a:tailEnd len="med" type="triangle" w="med"/>
          </a:ln>
        </p:spPr>
      </p:cxnSp>
      <p:sp>
        <p:nvSpPr>
          <p:cNvPr id="439" name="Прямая соединительная линия 18"/>
          <p:cNvSpPr/>
          <p:nvPr/>
        </p:nvSpPr>
        <p:spPr>
          <a:xfrm>
            <a:off x="6400800" y="4429080"/>
            <a:ext cx="0" cy="385920"/>
          </a:xfrm>
          <a:prstGeom prst="line">
            <a:avLst/>
          </a:prstGeom>
          <a:ln w="50760">
            <a:solidFill>
              <a:srgbClr val="487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0" name="Прямая со стрелкой 25"/>
          <p:cNvCxnSpPr/>
          <p:nvPr/>
        </p:nvCxnSpPr>
        <p:spPr>
          <a:xfrm flipV="1">
            <a:off x="4114800" y="4585680"/>
            <a:ext cx="381600" cy="748440"/>
          </a:xfrm>
          <a:prstGeom prst="straightConnector1">
            <a:avLst/>
          </a:prstGeom>
          <a:ln w="31680">
            <a:solidFill>
              <a:srgbClr val="487b78"/>
            </a:solidFill>
            <a:miter/>
            <a:tailEnd len="med" type="triangle" w="med"/>
          </a:ln>
        </p:spPr>
      </p:cxnSp>
      <p:sp>
        <p:nvSpPr>
          <p:cNvPr id="441" name="Прямая соединительная линия 27"/>
          <p:cNvSpPr/>
          <p:nvPr/>
        </p:nvSpPr>
        <p:spPr>
          <a:xfrm>
            <a:off x="6558120" y="4421160"/>
            <a:ext cx="0" cy="385920"/>
          </a:xfrm>
          <a:prstGeom prst="line">
            <a:avLst/>
          </a:prstGeom>
          <a:ln w="50760">
            <a:solidFill>
              <a:srgbClr val="487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Правая фигурная скобка 22"/>
          <p:cNvSpPr/>
          <p:nvPr/>
        </p:nvSpPr>
        <p:spPr>
          <a:xfrm>
            <a:off x="3809880" y="5614920"/>
            <a:ext cx="432000" cy="862200"/>
          </a:xfrm>
          <a:custGeom>
            <a:avLst/>
            <a:gdLst>
              <a:gd name="textAreaLeft" fmla="*/ 0 w 432000"/>
              <a:gd name="textAreaRight" fmla="*/ 155880 w 432000"/>
              <a:gd name="textAreaTop" fmla="*/ 11160 h 862200"/>
              <a:gd name="textAreaBottom" fmla="*/ 851040 h 86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1"/>
                  <a:pt x="10800" y="902"/>
                </a:cubicBezTo>
                <a:lnTo>
                  <a:pt x="10800" y="9898"/>
                </a:lnTo>
                <a:cubicBezTo>
                  <a:pt x="10800" y="10349"/>
                  <a:pt x="16200" y="10800"/>
                  <a:pt x="21600" y="10800"/>
                </a:cubicBezTo>
                <a:cubicBezTo>
                  <a:pt x="16200" y="10800"/>
                  <a:pt x="10800" y="11251"/>
                  <a:pt x="10800" y="11702"/>
                </a:cubicBezTo>
                <a:lnTo>
                  <a:pt x="10800" y="20698"/>
                </a:lnTo>
                <a:cubicBezTo>
                  <a:pt x="10800" y="21149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87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2"/>
          <p:cNvSpPr/>
          <p:nvPr/>
        </p:nvSpPr>
        <p:spPr>
          <a:xfrm>
            <a:off x="380880" y="138240"/>
            <a:ext cx="1676520" cy="3373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152280" y="838080"/>
          <a:ext cx="8839440" cy="5818320"/>
        </p:xfrm>
        <a:graphic>
          <a:graphicData uri="http://schemas.openxmlformats.org/drawingml/2006/table">
            <a:tbl>
              <a:tblPr/>
              <a:tblGrid>
                <a:gridCol w="2819520"/>
                <a:gridCol w="609480"/>
                <a:gridCol w="2567160"/>
                <a:gridCol w="1747800"/>
                <a:gridCol w="1095480"/>
              </a:tblGrid>
              <a:tr h="45720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ов с высшим профессиональным (немедицинским) образов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 должно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 должно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х ли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</a:tr>
              <a:tr h="2797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 больни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4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 скорой медицинской  помощ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6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переливания и центры кров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но-курортны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особого тип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оказывающие только платные медицински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 (стр.1-2, 4-10, 16-19, 25, 2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8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медицинских организациях, расположенных в сельской мест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клиники ВУЗов и НИИ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6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а (стр. 27+30)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организаций федер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а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5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45" name="Рисунок 7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46" name="Прямоугольник: скругленные углы 1"/>
          <p:cNvSpPr/>
          <p:nvPr/>
        </p:nvSpPr>
        <p:spPr>
          <a:xfrm>
            <a:off x="3849840" y="1951200"/>
            <a:ext cx="4760640" cy="117288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Графы 9, 10, 11 по сумме строк 27+30 должн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быть равны графам 3, 4,9 по строке 127+233 таблиц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1100 ФФСН №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Прямоугольник: скругленные углы 2"/>
          <p:cNvSpPr/>
          <p:nvPr/>
        </p:nvSpPr>
        <p:spPr>
          <a:xfrm>
            <a:off x="3849840" y="3487680"/>
            <a:ext cx="4836960" cy="138924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 строке 30 показывают сведения по клиник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УЗов и НИИ, указанных как, кроме того, 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таблицах 0100, 0600,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Прямоугольник: скругленные углы 3"/>
          <p:cNvSpPr/>
          <p:nvPr/>
        </p:nvSpPr>
        <p:spPr>
          <a:xfrm>
            <a:off x="3849840" y="5465880"/>
            <a:ext cx="495288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умма строк 27+30 должна быть равна сумме строк 31+32+33 по всем граф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Прямая со стрелкой 5"/>
          <p:cNvCxnSpPr/>
          <p:nvPr/>
        </p:nvCxnSpPr>
        <p:spPr>
          <a:xfrm>
            <a:off x="3200400" y="6060600"/>
            <a:ext cx="650160" cy="1080"/>
          </a:xfrm>
          <a:prstGeom prst="straightConnector1">
            <a:avLst/>
          </a:prstGeom>
          <a:ln w="31680">
            <a:solidFill>
              <a:srgbClr val="9966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90440" y="1143000"/>
          <a:ext cx="8763120" cy="5773680"/>
        </p:xfrm>
        <a:graphic>
          <a:graphicData uri="http://schemas.openxmlformats.org/drawingml/2006/table">
            <a:tbl>
              <a:tblPr/>
              <a:tblGrid>
                <a:gridCol w="1752840"/>
                <a:gridCol w="295200"/>
                <a:gridCol w="642960"/>
                <a:gridCol w="696960"/>
                <a:gridCol w="774360"/>
                <a:gridCol w="774720"/>
                <a:gridCol w="930600"/>
                <a:gridCol w="761760"/>
                <a:gridCol w="762120"/>
                <a:gridCol w="679320"/>
                <a:gridCol w="692280"/>
              </a:tblGrid>
              <a:tr h="24624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Число коек (фактически развернутых + свернутых на ремон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e3e5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е -годовые кой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-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дер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чинения субъекта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расположенных в сельской  мес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fbfb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fbfb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8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евые, республиканские, областные, окружные больни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8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краевые, республиканские,  областные, окружные больни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8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 больницы всего (сумма строк 7-17), 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70" name="Rectangle 118"/>
          <p:cNvSpPr/>
          <p:nvPr/>
        </p:nvSpPr>
        <p:spPr>
          <a:xfrm>
            <a:off x="6553080" y="378000"/>
            <a:ext cx="1524240" cy="380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0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Рисунок 7" descr=""/>
          <p:cNvPicPr/>
          <p:nvPr/>
        </p:nvPicPr>
        <p:blipFill>
          <a:blip r:embed="rId1"/>
          <a:stretch/>
        </p:blipFill>
        <p:spPr>
          <a:xfrm>
            <a:off x="8526600" y="281160"/>
            <a:ext cx="428400" cy="580680"/>
          </a:xfrm>
          <a:prstGeom prst="rect">
            <a:avLst/>
          </a:prstGeom>
          <a:ln w="0">
            <a:noFill/>
          </a:ln>
        </p:spPr>
      </p:pic>
      <p:sp>
        <p:nvSpPr>
          <p:cNvPr id="272" name="Овал 1"/>
          <p:cNvSpPr/>
          <p:nvPr/>
        </p:nvSpPr>
        <p:spPr>
          <a:xfrm>
            <a:off x="7696080" y="2362320"/>
            <a:ext cx="1295640" cy="838080"/>
          </a:xfrm>
          <a:prstGeom prst="ellipse">
            <a:avLst/>
          </a:prstGeom>
          <a:solidFill>
            <a:srgbClr val="e0edec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alibri"/>
              </a:rPr>
              <a:t>Целые чис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" name="Прямая со стрелкой 3"/>
          <p:cNvCxnSpPr/>
          <p:nvPr/>
        </p:nvCxnSpPr>
        <p:spPr>
          <a:xfrm flipH="1" flipV="1">
            <a:off x="7314840" y="2299680"/>
            <a:ext cx="381600" cy="324360"/>
          </a:xfrm>
          <a:prstGeom prst="straightConnector1">
            <a:avLst/>
          </a:prstGeom>
          <a:ln w="69840">
            <a:solidFill>
              <a:srgbClr val="990033"/>
            </a:solidFill>
            <a:miter/>
            <a:tailEnd len="med" type="triangle" w="med"/>
          </a:ln>
        </p:spPr>
      </p:cxnSp>
      <p:sp>
        <p:nvSpPr>
          <p:cNvPr id="274" name="Прямоугольник: скругленные углы 4"/>
          <p:cNvSpPr/>
          <p:nvPr/>
        </p:nvSpPr>
        <p:spPr>
          <a:xfrm>
            <a:off x="2508120" y="506520"/>
            <a:ext cx="1524240" cy="9144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Графа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3 должна равняться</a:t>
            </a:r>
            <a:r>
              <a:rPr b="1" lang="en-US" sz="12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умме</a:t>
            </a:r>
            <a:r>
              <a:rPr b="1" lang="en-US" sz="12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граф с 4 по 6 по всем</a:t>
            </a:r>
            <a:r>
              <a:rPr b="1" lang="en-US" sz="12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трок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Прямоугольник: скругленные углы 5"/>
          <p:cNvSpPr/>
          <p:nvPr/>
        </p:nvSpPr>
        <p:spPr>
          <a:xfrm>
            <a:off x="2362320" y="3584520"/>
            <a:ext cx="5943600" cy="21304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едорганизации, закрытые (реорганизованные) на 31.12.отчетного года гр.3-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(3-8) не заполняю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 остальным графам – деятельность на дату закрытия (штаты и входящие структурные подразделения – не заполняют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гр.8 показываем основной коечный фонд (без дополнительно развернутых кое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Прямоугольник: скругленные углы 6"/>
          <p:cNvSpPr/>
          <p:nvPr/>
        </p:nvSpPr>
        <p:spPr>
          <a:xfrm>
            <a:off x="189000" y="281160"/>
            <a:ext cx="1792080" cy="2342880"/>
          </a:xfrm>
          <a:custGeom>
            <a:avLst/>
            <a:gdLst>
              <a:gd name="textAreaLeft" fmla="*/ 87480 w 1792080"/>
              <a:gd name="textAreaRight" fmla="*/ 1704600 w 1792080"/>
              <a:gd name="textAreaTop" fmla="*/ 87480 h 2342880"/>
              <a:gd name="textAreaBottom" fmla="*/ 2255400 h 2342880"/>
            </a:gdLst>
            <a:ahLst/>
            <a:rect l="textAreaLeft" t="textAreaTop" r="textAreaRight" b="textAreaBottom"/>
            <a:pathLst>
              <a:path w="21600" h="28237">
                <a:moveTo>
                  <a:pt x="3600" y="0"/>
                </a:moveTo>
                <a:arcTo wR="3600" hR="3600" stAng="16200000" swAng="-5400000"/>
                <a:lnTo>
                  <a:pt x="0" y="24637"/>
                </a:lnTo>
                <a:arcTo wR="3600" hR="3600" stAng="10800000" swAng="-5400000"/>
                <a:lnTo>
                  <a:pt x="18000" y="282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f2f2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графах 3-7 указывается число</a:t>
            </a:r>
            <a:r>
              <a:rPr b="1" lang="en-US" sz="14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медицинских организаций –</a:t>
            </a:r>
            <a:r>
              <a:rPr b="1" lang="en-US" sz="14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юридических лиц,</a:t>
            </a:r>
            <a:r>
              <a:rPr b="1" lang="en-US" sz="1400" spc="-1" strike="noStrike">
                <a:solidFill>
                  <a:srgbClr val="c00000"/>
                </a:solidFill>
                <a:latin typeface="Tw Cen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осуществляющих деятельность на 31декабр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отчетного год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2"/>
          <p:cNvSpPr/>
          <p:nvPr/>
        </p:nvSpPr>
        <p:spPr>
          <a:xfrm>
            <a:off x="457200" y="152280"/>
            <a:ext cx="1676520" cy="3373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лица 1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228600" y="838080"/>
          <a:ext cx="8610480" cy="5748480"/>
        </p:xfrm>
        <a:graphic>
          <a:graphicData uri="http://schemas.openxmlformats.org/drawingml/2006/table">
            <a:tbl>
              <a:tblPr/>
              <a:tblGrid>
                <a:gridCol w="2819520"/>
                <a:gridCol w="457200"/>
                <a:gridCol w="2124000"/>
                <a:gridCol w="1800360"/>
                <a:gridCol w="1409400"/>
              </a:tblGrid>
              <a:tr h="28620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 должно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 должно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х ли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77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</a:tr>
              <a:tr h="286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 больни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 скорой медицинской  помощ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переливания и центры кров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но-курортны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особого тип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оказывающие только платные медицински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 (стр.1-2, 4-10, 16-19, 25, 2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медицинских организациях, расположенных в сельской мест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клиники ВУЗов и НИИ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а (стр. 27+30)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организаций федер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а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2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52" name="Прямоугольник: скругленные углы 1"/>
          <p:cNvSpPr/>
          <p:nvPr/>
        </p:nvSpPr>
        <p:spPr>
          <a:xfrm>
            <a:off x="3733920" y="1981080"/>
            <a:ext cx="4952880" cy="14479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Графы 24, 25, 26 по сумме строк 27+30 должны  быть равны графам 3, 4  по строке 228 +237 таблицы 1100 ФФСН №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Прямоугольник: скругленные углы 2"/>
          <p:cNvSpPr/>
          <p:nvPr/>
        </p:nvSpPr>
        <p:spPr>
          <a:xfrm>
            <a:off x="3809880" y="3657600"/>
            <a:ext cx="48769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умма строк 27+30 должна быть равна сумме строк 31+32+33 по всем граф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Прямая со стрелкой 4"/>
          <p:cNvCxnSpPr>
            <a:endCxn id="453" idx="1"/>
          </p:cNvCxnSpPr>
          <p:nvPr/>
        </p:nvCxnSpPr>
        <p:spPr>
          <a:xfrm flipV="1">
            <a:off x="3505320" y="4114440"/>
            <a:ext cx="305280" cy="457920"/>
          </a:xfrm>
          <a:prstGeom prst="straightConnector1">
            <a:avLst/>
          </a:prstGeom>
          <a:ln w="34920">
            <a:solidFill>
              <a:srgbClr val="487b78"/>
            </a:solidFill>
            <a:miter/>
            <a:tailEnd len="med" type="triangle" w="med"/>
          </a:ln>
        </p:spPr>
      </p:cxnSp>
      <p:cxnSp>
        <p:nvCxnSpPr>
          <p:cNvPr id="455" name="Прямая со стрелкой 12"/>
          <p:cNvCxnSpPr/>
          <p:nvPr/>
        </p:nvCxnSpPr>
        <p:spPr>
          <a:xfrm flipV="1">
            <a:off x="3506760" y="4208040"/>
            <a:ext cx="303840" cy="1154880"/>
          </a:xfrm>
          <a:prstGeom prst="straightConnector1">
            <a:avLst/>
          </a:prstGeom>
          <a:ln w="34920">
            <a:solidFill>
              <a:srgbClr val="487b78"/>
            </a:solidFill>
            <a:miter/>
            <a:tailEnd len="med" type="triangle" w="med"/>
          </a:ln>
        </p:spPr>
      </p:cxnSp>
      <p:sp>
        <p:nvSpPr>
          <p:cNvPr id="456" name="Прямоугольник: скругленные углы 7"/>
          <p:cNvSpPr/>
          <p:nvPr/>
        </p:nvSpPr>
        <p:spPr>
          <a:xfrm>
            <a:off x="3809880" y="5610240"/>
            <a:ext cx="4800600" cy="9144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 строке 30 показывают сведения по клиник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УЗов и НИИ, указанных как кроме того 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таблицах 0100, 0600,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Box 8"/>
          <p:cNvSpPr/>
          <p:nvPr/>
        </p:nvSpPr>
        <p:spPr>
          <a:xfrm>
            <a:off x="5267880" y="32076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имание! Изменения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Прямоугольник: скругленные углы 9"/>
          <p:cNvSpPr/>
          <p:nvPr/>
        </p:nvSpPr>
        <p:spPr>
          <a:xfrm>
            <a:off x="4076640" y="4818240"/>
            <a:ext cx="4533840" cy="439560"/>
          </a:xfrm>
          <a:prstGeom prst="roundRect">
            <a:avLst>
              <a:gd name="adj" fmla="val 16667"/>
            </a:avLst>
          </a:prstGeom>
          <a:solidFill>
            <a:srgbClr val="dfe3e5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ока 28 – сверить с формой 30-се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Рисунок 3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460" name="Прямоугольник 11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Рисунок 5" descr=""/>
          <p:cNvPicPr/>
          <p:nvPr/>
        </p:nvPicPr>
        <p:blipFill>
          <a:blip r:embed="rId2"/>
          <a:stretch/>
        </p:blipFill>
        <p:spPr>
          <a:xfrm>
            <a:off x="8410680" y="96840"/>
            <a:ext cx="428400" cy="436680"/>
          </a:xfrm>
          <a:prstGeom prst="rect">
            <a:avLst/>
          </a:prstGeom>
          <a:ln w="0">
            <a:noFill/>
          </a:ln>
        </p:spPr>
      </p:pic>
      <p:sp>
        <p:nvSpPr>
          <p:cNvPr id="462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380880" y="152280"/>
          <a:ext cx="8029800" cy="6728040"/>
        </p:xfrm>
        <a:graphic>
          <a:graphicData uri="http://schemas.openxmlformats.org/drawingml/2006/table">
            <a:tbl>
              <a:tblPr/>
              <a:tblGrid>
                <a:gridCol w="2602080"/>
                <a:gridCol w="789120"/>
                <a:gridCol w="771480"/>
                <a:gridCol w="925200"/>
                <a:gridCol w="169920"/>
                <a:gridCol w="228600"/>
                <a:gridCol w="2543400"/>
              </a:tblGrid>
              <a:tr h="574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ожение №10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письму Минздрава России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               2021 №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3520">
                <a:tc gridSpan="7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яснительная зап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форме ФСН №4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2021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 gridSpan="7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I раздел. Изменение сети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84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(юридические лиц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лонение (+ , -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.ч. подч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а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6240">
                <a:tc gridSpan="7"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 следует указать при сокращении (увеличении) количества медицинских организаций – реорганизация, ликвидация, передача полномочий, объединение и т.д. в соответствии с принятыми в субъекте нормативными документа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9200"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бособленные структурные подразделения медицинской организации, включая передвиж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лонение (+ , -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ковые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">
                <a:tc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ные больницы центра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ные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">
                <a:tc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о-акушерские пун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 пун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 gridSpan="7"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 следует указать при сокращении (увеличении) количества обособленных структурных подразделений  – реорганизация, ликвидация,  объединение и т.д. в соответствии с принятыми в субъекте нормативными документ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Рисунок 3" descr=""/>
          <p:cNvPicPr/>
          <p:nvPr/>
        </p:nvPicPr>
        <p:blipFill>
          <a:blip r:embed="rId1"/>
          <a:stretch/>
        </p:blipFill>
        <p:spPr>
          <a:xfrm>
            <a:off x="-41400" y="0"/>
            <a:ext cx="9185400" cy="618156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Рисунок 5" descr=""/>
          <p:cNvPicPr/>
          <p:nvPr/>
        </p:nvPicPr>
        <p:blipFill>
          <a:blip r:embed="rId2"/>
          <a:stretch/>
        </p:blipFill>
        <p:spPr>
          <a:xfrm>
            <a:off x="8534520" y="146160"/>
            <a:ext cx="428400" cy="579240"/>
          </a:xfrm>
          <a:prstGeom prst="rect">
            <a:avLst/>
          </a:prstGeom>
          <a:ln w="0">
            <a:noFill/>
          </a:ln>
        </p:spPr>
      </p:pic>
      <p:sp>
        <p:nvSpPr>
          <p:cNvPr id="467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228600" y="1143000"/>
          <a:ext cx="8534520" cy="3552840"/>
        </p:xfrm>
        <a:graphic>
          <a:graphicData uri="http://schemas.openxmlformats.org/drawingml/2006/table">
            <a:tbl>
              <a:tblPr/>
              <a:tblGrid>
                <a:gridCol w="2765520"/>
                <a:gridCol w="838080"/>
                <a:gridCol w="820800"/>
                <a:gridCol w="982800"/>
                <a:gridCol w="3127320"/>
              </a:tblGrid>
              <a:tr h="19224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Раздел II. Изменение мощности круглосуточных стациона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е организации (табл.0100 )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клонение (+ , -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чины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сего коек на конец года, в т.ч. подчинения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дераль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ъекта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4040">
                <a:tc gridSpan="5"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причины следует указать при сокращении (увеличении) количества коек – сокращение, увеличение, передача полномочий  и т.д. в соответствии с принятыми в субъекте нормативными документам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8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пись  руководителя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.И.О. полность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пись ответственного лиц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.И.О. полность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5728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.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л. почта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Рисунок 3" descr=""/>
          <p:cNvPicPr/>
          <p:nvPr/>
        </p:nvPicPr>
        <p:blipFill>
          <a:blip r:embed="rId1"/>
          <a:stretch/>
        </p:blipFill>
        <p:spPr>
          <a:xfrm>
            <a:off x="-12600" y="-2700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bad91"/>
                </a:solidFill>
                <a:latin typeface="Calibri"/>
              </a:rPr>
              <a:t>Пояснительные запис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Рисунок 5" descr=""/>
          <p:cNvPicPr/>
          <p:nvPr/>
        </p:nvPicPr>
        <p:blipFill>
          <a:blip r:embed="rId2"/>
          <a:stretch/>
        </p:blipFill>
        <p:spPr>
          <a:xfrm>
            <a:off x="8391600" y="96840"/>
            <a:ext cx="428400" cy="579600"/>
          </a:xfrm>
          <a:prstGeom prst="rect">
            <a:avLst/>
          </a:prstGeom>
          <a:ln w="0">
            <a:noFill/>
          </a:ln>
        </p:spPr>
      </p:pic>
      <p:sp>
        <p:nvSpPr>
          <p:cNvPr id="472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Прямоугольник 2"/>
          <p:cNvSpPr/>
          <p:nvPr/>
        </p:nvSpPr>
        <p:spPr>
          <a:xfrm>
            <a:off x="257040" y="873000"/>
            <a:ext cx="836460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 форме 47 дополнительно прилагаются следующие пояснительные записк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바탕"/>
              </a:rPr>
              <a:t>1.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дицинские организации, не соответствующие «Номенклатуре медицинских организаций»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 указанием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лное наименование медицинской организаци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роки и меры по приведению к действующей номенклатур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исывается руководителем или заместителем руководителя органа управления здравоохранения субъекта Российской Федерации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медицинских организаций федерального подчинения и филиалов федеральных медицинских организаций, расположенных на территории субъекта Российской Федерации и включенных в годовой отче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е наименование медицинской организации или филиала с указанием подчинения (Минздрава России, Академии наук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писывается руководителем МИАЦ или Бюро медицинской статистики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Рисунок 3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475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bad91"/>
                </a:solidFill>
                <a:latin typeface="Calibri"/>
              </a:rPr>
              <a:t>Пояснительные запис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Рисунок 5" descr=""/>
          <p:cNvPicPr/>
          <p:nvPr/>
        </p:nvPicPr>
        <p:blipFill>
          <a:blip r:embed="rId2"/>
          <a:stretch/>
        </p:blipFill>
        <p:spPr>
          <a:xfrm>
            <a:off x="8410680" y="96840"/>
            <a:ext cx="428400" cy="579600"/>
          </a:xfrm>
          <a:prstGeom prst="rect">
            <a:avLst/>
          </a:prstGeom>
          <a:ln w="0">
            <a:noFill/>
          </a:ln>
        </p:spPr>
      </p:pic>
      <p:sp>
        <p:nvSpPr>
          <p:cNvPr id="477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Прямоугольник 2"/>
          <p:cNvSpPr/>
          <p:nvPr/>
        </p:nvSpPr>
        <p:spPr>
          <a:xfrm>
            <a:off x="654120" y="977760"/>
            <a:ext cx="815328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3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медицинских организаций, оказывающих медицинскую помощь в стационарных условиях, у которых на конец года отсутствуют койки с указанием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е наименование медицинской орган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сокращения кое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изменения типа медицинской орган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писывается руководителем или заместителем руководителя органа управления здравоохранения субъекта Российской Федерации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4. Таблица 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.25 и 3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.18 и 19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дицинские организации и площадь в аварийном состоянии (снос, реконструкция, капитальный ремонт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ь с уровнем 2020 года, указать отклоне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писывается ответственным специалистом органа управления здравоохранения субъекта Российской Федерации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Рисунок 3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480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Рисунок 5" descr=""/>
          <p:cNvPicPr/>
          <p:nvPr/>
        </p:nvPicPr>
        <p:blipFill>
          <a:blip r:embed="rId2"/>
          <a:stretch/>
        </p:blipFill>
        <p:spPr>
          <a:xfrm>
            <a:off x="8410680" y="96840"/>
            <a:ext cx="428400" cy="579600"/>
          </a:xfrm>
          <a:prstGeom prst="rect">
            <a:avLst/>
          </a:prstGeom>
          <a:ln w="0">
            <a:noFill/>
          </a:ln>
        </p:spPr>
      </p:pic>
      <p:sp>
        <p:nvSpPr>
          <p:cNvPr id="482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Прямоугольник 2"/>
          <p:cNvSpPr/>
          <p:nvPr/>
        </p:nvSpPr>
        <p:spPr>
          <a:xfrm>
            <a:off x="291960" y="1219320"/>
            <a:ext cx="8534520" cy="38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асшифровка строки «прочие» по всем таблиц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писывается руководителем МИАЦ или Бюро медицинской статистики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6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ие дополнительно развернутых коек для оказания медицинской помощи пациентам с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9 – временно, на период эпидемии  - для ф.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ить пояснительную записку с указанием нормативных документов по открытию дополнительных коек по состоянию на 31.12. 2021 год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ть профиль коек (инфекционные, реанимационные, интенсивная терапия, иные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исывается руководителем или заместителем руководителя органа управления здравоохранения субъекта Российской Федерации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Рисунок 3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485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Рисунок 5" descr=""/>
          <p:cNvPicPr/>
          <p:nvPr/>
        </p:nvPicPr>
        <p:blipFill>
          <a:blip r:embed="rId2"/>
          <a:stretch/>
        </p:blipFill>
        <p:spPr>
          <a:xfrm>
            <a:off x="284040" y="182520"/>
            <a:ext cx="428760" cy="579600"/>
          </a:xfrm>
          <a:prstGeom prst="rect">
            <a:avLst/>
          </a:prstGeom>
          <a:ln w="0">
            <a:noFill/>
          </a:ln>
        </p:spPr>
      </p:pic>
      <p:sp>
        <p:nvSpPr>
          <p:cNvPr id="487" name="TextBox 13"/>
          <p:cNvSpPr/>
          <p:nvPr/>
        </p:nvSpPr>
        <p:spPr>
          <a:xfrm>
            <a:off x="762120" y="2887560"/>
            <a:ext cx="8076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ФФСН №47 «Сведения о сети и деятельности медицинских организаций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Прямоугольник 15"/>
          <p:cNvSpPr/>
          <p:nvPr/>
        </p:nvSpPr>
        <p:spPr>
          <a:xfrm>
            <a:off x="914400" y="18252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tserrat"/>
              </a:rPr>
              <a:t>Центральный научно-исследовательский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tserrat"/>
              </a:rPr>
              <a:t>институт организации и информатизации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tserrat"/>
              </a:rPr>
              <a:t>здравоохранения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Прямоугольник 23"/>
          <p:cNvSpPr/>
          <p:nvPr/>
        </p:nvSpPr>
        <p:spPr>
          <a:xfrm>
            <a:off x="284040" y="5680080"/>
            <a:ext cx="457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c5e53"/>
                </a:solidFill>
                <a:latin typeface="Montserrat SemiBold"/>
              </a:rPr>
              <a:t>www.mednet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118"/>
          <p:cNvSpPr/>
          <p:nvPr/>
        </p:nvSpPr>
        <p:spPr>
          <a:xfrm>
            <a:off x="457200" y="457200"/>
            <a:ext cx="1523880" cy="380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лица 0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2"/>
          <p:cNvSpPr/>
          <p:nvPr/>
        </p:nvSpPr>
        <p:spPr>
          <a:xfrm>
            <a:off x="4572000" y="457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Внимание! Изменения!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04920" y="914400"/>
          <a:ext cx="8229600" cy="5181480"/>
        </p:xfrm>
        <a:graphic>
          <a:graphicData uri="http://schemas.openxmlformats.org/drawingml/2006/table">
            <a:tbl>
              <a:tblPr/>
              <a:tblGrid>
                <a:gridCol w="2514600"/>
                <a:gridCol w="533160"/>
                <a:gridCol w="609840"/>
                <a:gridCol w="501480"/>
                <a:gridCol w="646200"/>
                <a:gridCol w="476280"/>
                <a:gridCol w="557280"/>
                <a:gridCol w="763560"/>
                <a:gridCol w="531720"/>
                <a:gridCol w="547560"/>
                <a:gridCol w="547920"/>
              </a:tblGrid>
              <a:tr h="2743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 (фактически развернутых + свернутых на ремон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 -годовые кой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-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я субъекта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асположенных в сельской  мест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,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ысоких медицинских технолог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ко-генет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й реабилит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ля 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раны здоровья семьи и репродук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………………</a:t>
                      </a: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иализирован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. . </a:t>
                      </a: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. из них сурдологические для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4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оказывающие только платны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1" name="Рисунок 7" descr=""/>
          <p:cNvPicPr/>
          <p:nvPr/>
        </p:nvPicPr>
        <p:blipFill>
          <a:blip r:embed="rId1"/>
          <a:stretch/>
        </p:blipFill>
        <p:spPr>
          <a:xfrm>
            <a:off x="8443800" y="146160"/>
            <a:ext cx="428760" cy="57924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: скругленные углы 2"/>
          <p:cNvSpPr/>
          <p:nvPr/>
        </p:nvSpPr>
        <p:spPr>
          <a:xfrm>
            <a:off x="3759120" y="2895480"/>
            <a:ext cx="4470480" cy="10670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рока 27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ожет быть больше суммы строк 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c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2 по 33, с 34 по 4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 счет «прочих» центров, не поименованных в боковике таблицы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разницу пояснить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Прямоугольник: скругленные углы 3"/>
          <p:cNvSpPr/>
          <p:nvPr/>
        </p:nvSpPr>
        <p:spPr>
          <a:xfrm>
            <a:off x="3759120" y="5370480"/>
            <a:ext cx="4481640" cy="9144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Хозрасчетные медицинские организации- исключе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МО, оказывающие только платные медицински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Прямая со стрелкой 4"/>
          <p:cNvCxnSpPr/>
          <p:nvPr/>
        </p:nvCxnSpPr>
        <p:spPr>
          <a:xfrm flipH="1">
            <a:off x="2971440" y="5638320"/>
            <a:ext cx="915120" cy="1080"/>
          </a:xfrm>
          <a:prstGeom prst="straightConnector1">
            <a:avLst/>
          </a:prstGeom>
          <a:ln w="25560">
            <a:solidFill>
              <a:srgbClr val="660033"/>
            </a:solidFill>
            <a:miter/>
            <a:tailEnd len="med" type="triangle" w="med"/>
          </a:ln>
        </p:spPr>
      </p:cxnSp>
      <p:sp>
        <p:nvSpPr>
          <p:cNvPr id="285" name="Прямоугольник: скругленные углы 7"/>
          <p:cNvSpPr/>
          <p:nvPr/>
        </p:nvSpPr>
        <p:spPr>
          <a:xfrm>
            <a:off x="3759120" y="4230720"/>
            <a:ext cx="448164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веден новый тип медицинской организ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Прямая со стрелкой 9"/>
          <p:cNvCxnSpPr>
            <a:stCxn id="285" idx="1"/>
          </p:cNvCxnSpPr>
          <p:nvPr/>
        </p:nvCxnSpPr>
        <p:spPr>
          <a:xfrm flipH="1">
            <a:off x="3047400" y="4687920"/>
            <a:ext cx="711720" cy="342000"/>
          </a:xfrm>
          <a:prstGeom prst="straightConnector1">
            <a:avLst/>
          </a:prstGeom>
          <a:ln w="34920">
            <a:solidFill>
              <a:srgbClr val="66003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Рисунок 3" descr=""/>
          <p:cNvPicPr/>
          <p:nvPr/>
        </p:nvPicPr>
        <p:blipFill>
          <a:blip r:embed="rId1"/>
          <a:stretch/>
        </p:blipFill>
        <p:spPr>
          <a:xfrm>
            <a:off x="8381880" y="90360"/>
            <a:ext cx="428760" cy="50184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4"/>
          <p:cNvSpPr/>
          <p:nvPr/>
        </p:nvSpPr>
        <p:spPr>
          <a:xfrm>
            <a:off x="30240" y="-7920"/>
            <a:ext cx="9113760" cy="61740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Прямоугольник: скругленные углы 1"/>
          <p:cNvSpPr/>
          <p:nvPr/>
        </p:nvSpPr>
        <p:spPr>
          <a:xfrm>
            <a:off x="1865160" y="2514600"/>
            <a:ext cx="6934320" cy="914400"/>
          </a:xfrm>
          <a:prstGeom prst="roundRect">
            <a:avLst>
              <a:gd name="adj" fmla="val 16667"/>
            </a:avLst>
          </a:prstGeom>
          <a:solidFill>
            <a:srgbClr val="e9d3bd">
              <a:alpha val="46000"/>
            </a:srgbClr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СВЕДЕНИ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 ДИСПАНСЕРА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0500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Рисунок 6" descr=""/>
          <p:cNvPicPr/>
          <p:nvPr/>
        </p:nvPicPr>
        <p:blipFill>
          <a:blip r:embed="rId2"/>
          <a:stretch/>
        </p:blipFill>
        <p:spPr>
          <a:xfrm>
            <a:off x="8381880" y="76320"/>
            <a:ext cx="42876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1"/>
          <p:cNvSpPr/>
          <p:nvPr/>
        </p:nvSpPr>
        <p:spPr>
          <a:xfrm>
            <a:off x="6107760" y="228600"/>
            <a:ext cx="2759400" cy="368280"/>
          </a:xfrm>
          <a:prstGeom prst="rect">
            <a:avLst/>
          </a:prstGeom>
          <a:solidFill>
            <a:srgbClr val="e9d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Внимание!!! Изменения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Таблица 2" descr=""/>
          <p:cNvPicPr/>
          <p:nvPr/>
        </p:nvPicPr>
        <p:blipFill>
          <a:blip r:embed="rId1"/>
          <a:stretch/>
        </p:blipFill>
        <p:spPr>
          <a:xfrm>
            <a:off x="804960" y="665280"/>
            <a:ext cx="7596000" cy="3035160"/>
          </a:xfrm>
          <a:prstGeom prst="rect">
            <a:avLst/>
          </a:prstGeom>
          <a:ln w="0">
            <a:noFill/>
          </a:ln>
        </p:spPr>
      </p:pic>
      <p:sp>
        <p:nvSpPr>
          <p:cNvPr id="293" name="TextBox 3"/>
          <p:cNvSpPr/>
          <p:nvPr/>
        </p:nvSpPr>
        <p:spPr>
          <a:xfrm>
            <a:off x="1328760" y="2544840"/>
            <a:ext cx="7129440" cy="1191240"/>
          </a:xfrm>
          <a:prstGeom prst="rect">
            <a:avLst/>
          </a:pr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жности младшего медицинского персонала  исключе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исло должностей (штатных/занятых), число физических лиц врачей должно соответствовать данным таблицы 0100+таблица 0600 по соответствующим строкам и таблице 1800 (строка 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927000" y="3962520"/>
          <a:ext cx="7531200" cy="1355760"/>
        </p:xfrm>
        <a:graphic>
          <a:graphicData uri="http://schemas.openxmlformats.org/drawingml/2006/table">
            <a:tbl>
              <a:tblPr/>
              <a:tblGrid>
                <a:gridCol w="1846440"/>
                <a:gridCol w="365040"/>
                <a:gridCol w="1065240"/>
                <a:gridCol w="1063440"/>
                <a:gridCol w="1063800"/>
                <a:gridCol w="1063440"/>
                <a:gridCol w="1063800"/>
              </a:tblGrid>
              <a:tr h="1218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спансер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коек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фактически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ернутых + свернутых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ремон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егодовые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й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упило пациентов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деления, оказывающие медицинскую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мощь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сельских жителей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из гр. 1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о всеми пациентами койко-дн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5"/>
                    </a:solidFill>
                  </a:tcPr>
                </a:tc>
              </a:tr>
              <a:tr h="137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</a:tbl>
          </a:graphicData>
        </a:graphic>
      </p:graphicFrame>
      <p:sp>
        <p:nvSpPr>
          <p:cNvPr id="295" name="Rectangle 108"/>
          <p:cNvSpPr/>
          <p:nvPr/>
        </p:nvSpPr>
        <p:spPr>
          <a:xfrm>
            <a:off x="304920" y="190440"/>
            <a:ext cx="1600200" cy="381240"/>
          </a:xfrm>
          <a:prstGeom prst="rect">
            <a:avLst/>
          </a:pr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лица 0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Прямоугольник: скругленные углы 7"/>
          <p:cNvSpPr/>
          <p:nvPr/>
        </p:nvSpPr>
        <p:spPr>
          <a:xfrm>
            <a:off x="927000" y="5791320"/>
            <a:ext cx="753120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по графам 9-13 (строка 10) должны быть равны данным в таблице 0100, графа 8-12 по строке 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Дуга 1"/>
          <p:cNvSpPr/>
          <p:nvPr/>
        </p:nvSpPr>
        <p:spPr>
          <a:xfrm rot="5776800">
            <a:off x="2764800" y="1394640"/>
            <a:ext cx="674640" cy="914400"/>
          </a:xfrm>
          <a:custGeom>
            <a:avLst/>
            <a:gdLst/>
            <a:ahLst/>
            <a:rect l="l" t="t" r="r" b="b"/>
            <a:pathLst>
              <a:path stroke="0" w="674688" h="914400">
                <a:moveTo>
                  <a:pt x="337344" y="0"/>
                </a:moveTo>
                <a:cubicBezTo>
                  <a:pt x="504254" y="0"/>
                  <a:pt x="646072" y="165428"/>
                  <a:pt x="670927" y="389118"/>
                </a:cubicBezTo>
                <a:cubicBezTo>
                  <a:pt x="691586" y="575048"/>
                  <a:pt x="626148" y="759162"/>
                  <a:pt x="505995" y="853163"/>
                </a:cubicBezTo>
                <a:lnTo>
                  <a:pt x="337344" y="457200"/>
                </a:lnTo>
                <a:lnTo>
                  <a:pt x="337344" y="0"/>
                </a:lnTo>
                <a:close/>
              </a:path>
              <a:path fill="none" w="674688" h="914400">
                <a:moveTo>
                  <a:pt x="337344" y="0"/>
                </a:moveTo>
                <a:cubicBezTo>
                  <a:pt x="504254" y="0"/>
                  <a:pt x="646072" y="165428"/>
                  <a:pt x="670927" y="389118"/>
                </a:cubicBezTo>
                <a:cubicBezTo>
                  <a:pt x="691586" y="575048"/>
                  <a:pt x="626148" y="759162"/>
                  <a:pt x="505995" y="853163"/>
                </a:cubicBezTo>
              </a:path>
            </a:pathLst>
          </a:custGeom>
          <a:noFill/>
          <a:ln w="2844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Прямая соединительная линия 5"/>
          <p:cNvSpPr/>
          <p:nvPr/>
        </p:nvSpPr>
        <p:spPr>
          <a:xfrm>
            <a:off x="2954160" y="1905120"/>
            <a:ext cx="327240" cy="0"/>
          </a:xfrm>
          <a:prstGeom prst="line">
            <a:avLst/>
          </a:prstGeom>
          <a:ln w="414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Прямоугольник 3"/>
          <p:cNvSpPr/>
          <p:nvPr/>
        </p:nvSpPr>
        <p:spPr>
          <a:xfrm>
            <a:off x="30240" y="-7920"/>
            <a:ext cx="9113760" cy="61740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Рисунок 4" descr=""/>
          <p:cNvPicPr/>
          <p:nvPr/>
        </p:nvPicPr>
        <p:blipFill>
          <a:blip r:embed="rId1"/>
          <a:stretch/>
        </p:blipFill>
        <p:spPr>
          <a:xfrm>
            <a:off x="8534520" y="50760"/>
            <a:ext cx="428400" cy="501840"/>
          </a:xfrm>
          <a:prstGeom prst="rect">
            <a:avLst/>
          </a:prstGeom>
          <a:ln w="0">
            <a:noFill/>
          </a:ln>
        </p:spPr>
      </p:pic>
      <p:sp>
        <p:nvSpPr>
          <p:cNvPr id="301" name="Прямоугольник: скругленные углы 1"/>
          <p:cNvSpPr/>
          <p:nvPr/>
        </p:nvSpPr>
        <p:spPr>
          <a:xfrm>
            <a:off x="685800" y="1600200"/>
            <a:ext cx="8077320" cy="2286000"/>
          </a:xfrm>
          <a:prstGeom prst="roundRect">
            <a:avLst>
              <a:gd name="adj" fmla="val 16667"/>
            </a:avLst>
          </a:prstGeom>
          <a:solidFill>
            <a:srgbClr val="e9d3bd">
              <a:alpha val="47000"/>
            </a:srgbClr>
          </a:solidFill>
          <a:ln w="15840">
            <a:solidFill>
              <a:srgbClr val="9966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I. МЕДИЦИНСКИЕ ОРГАНИЗАЦИИ, ОКАЗЫВАЮЩИ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ДИЦИНСКУЮ ПОМОЩЬ В АМБУЛАТОРНЫ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СЛОВИЯХ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МБУЛАТОРИИ, ПОЛИКЛИНИКИ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ЖЕНСКИЕ КОНСУЛЬТАЦИИ, ДИСПАНСЕРЫ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НТРЫ 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И ОСОБОГО ТИП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З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КЛЮЧЕНИЕМ СТОМАТОЛОГИЧЕСКИХ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ИКЛИНИК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Прямоугольник: скругленные углы 2"/>
          <p:cNvSpPr/>
          <p:nvPr/>
        </p:nvSpPr>
        <p:spPr>
          <a:xfrm>
            <a:off x="6705720" y="411480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аблица 0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8"/>
          <p:cNvSpPr/>
          <p:nvPr/>
        </p:nvSpPr>
        <p:spPr>
          <a:xfrm>
            <a:off x="457200" y="457200"/>
            <a:ext cx="1523880" cy="3049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0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2"/>
          <p:cNvSpPr/>
          <p:nvPr/>
        </p:nvSpPr>
        <p:spPr>
          <a:xfrm>
            <a:off x="5410080" y="4572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Внимание! Изменения!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52280" y="838080"/>
          <a:ext cx="8763120" cy="4846680"/>
        </p:xfrm>
        <a:graphic>
          <a:graphicData uri="http://schemas.openxmlformats.org/drawingml/2006/table">
            <a:tbl>
              <a:tblPr/>
              <a:tblGrid>
                <a:gridCol w="2536920"/>
                <a:gridCol w="460440"/>
                <a:gridCol w="660240"/>
                <a:gridCol w="609840"/>
                <a:gridCol w="685800"/>
                <a:gridCol w="685800"/>
                <a:gridCol w="761760"/>
                <a:gridCol w="1516320"/>
                <a:gridCol w="846000"/>
              </a:tblGrid>
              <a:tr h="2743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(из 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к врачам, включая профилактические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без посещений к стоматологам и зубным врача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 на дому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без посещений к стоматологам и зубным врача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</a:tr>
              <a:tr h="209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а Р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женные в сельской мест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клини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участвующие в создании и тиражировании «Новой модели медицинской организаци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поликли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участвующие в создании и тиражировании «Новой модели медицинской организаци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ие консуль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306" name="Схема 1" descr=""/>
          <p:cNvPicPr/>
          <p:nvPr/>
        </p:nvPicPr>
        <p:blipFill>
          <a:blip r:embed="rId1"/>
          <a:stretch/>
        </p:blipFill>
        <p:spPr>
          <a:xfrm>
            <a:off x="3267000" y="2987640"/>
            <a:ext cx="5585040" cy="97488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876"/>
          <p:cNvSpPr/>
          <p:nvPr/>
        </p:nvSpPr>
        <p:spPr>
          <a:xfrm>
            <a:off x="152280" y="5410080"/>
            <a:ext cx="8763120" cy="45720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</a:rPr>
              <a:t>В ф.30, таблица  1100 – изменена нумерация стро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Рисунок 9" descr=""/>
          <p:cNvPicPr/>
          <p:nvPr/>
        </p:nvPicPr>
        <p:blipFill>
          <a:blip r:embed="rId2"/>
          <a:stretch/>
        </p:blipFill>
        <p:spPr>
          <a:xfrm>
            <a:off x="8334360" y="228600"/>
            <a:ext cx="428760" cy="501480"/>
          </a:xfrm>
          <a:prstGeom prst="rect">
            <a:avLst/>
          </a:prstGeom>
          <a:ln w="0">
            <a:noFill/>
          </a:ln>
        </p:spPr>
      </p:pic>
      <p:sp>
        <p:nvSpPr>
          <p:cNvPr id="309" name="Прямоугольник: скругленные углы 3"/>
          <p:cNvSpPr/>
          <p:nvPr/>
        </p:nvSpPr>
        <p:spPr>
          <a:xfrm>
            <a:off x="3276720" y="4071960"/>
            <a:ext cx="556236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афы 8, 9 заполняются на основании данных ФФСН №30 таблицы 2100 без учета деяте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оматологов по срокам  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87, 88, 89, 90,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Стрелка: вправо 4"/>
          <p:cNvSpPr/>
          <p:nvPr/>
        </p:nvSpPr>
        <p:spPr>
          <a:xfrm rot="16200000">
            <a:off x="6980760" y="4224600"/>
            <a:ext cx="770040" cy="2365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fe3e5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Таблица 1" descr=""/>
          <p:cNvPicPr/>
          <p:nvPr/>
        </p:nvPicPr>
        <p:blipFill>
          <a:blip r:embed="rId1"/>
          <a:stretch/>
        </p:blipFill>
        <p:spPr>
          <a:xfrm>
            <a:off x="523800" y="901800"/>
            <a:ext cx="8029800" cy="521316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108"/>
          <p:cNvSpPr/>
          <p:nvPr/>
        </p:nvSpPr>
        <p:spPr>
          <a:xfrm>
            <a:off x="457200" y="457200"/>
            <a:ext cx="1523880" cy="3049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0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5334120" y="4572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Внимание! Изменения!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Прямоугольник: скругленные углы 7"/>
          <p:cNvSpPr/>
          <p:nvPr/>
        </p:nvSpPr>
        <p:spPr>
          <a:xfrm>
            <a:off x="3932280" y="2743200"/>
            <a:ext cx="4602240" cy="16002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строке 3.2  показываем детские поликлиники с современной инфраструктур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строке 11.1 – центры консультативно-диагностические с современной инфраструктур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Данные ------ федеральный проек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Прямоугольник: скругленные углы 8"/>
          <p:cNvSpPr/>
          <p:nvPr/>
        </p:nvSpPr>
        <p:spPr>
          <a:xfrm>
            <a:off x="4038480" y="4495680"/>
            <a:ext cx="449604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alibri"/>
              </a:rPr>
              <a:t>Строка 5 - переименова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6" name="Прямая со стрелкой 10"/>
          <p:cNvCxnSpPr>
            <a:endCxn id="315" idx="1"/>
          </p:cNvCxnSpPr>
          <p:nvPr/>
        </p:nvCxnSpPr>
        <p:spPr>
          <a:xfrm>
            <a:off x="3352320" y="4495680"/>
            <a:ext cx="686520" cy="45792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triangle" w="med"/>
          </a:ln>
        </p:spPr>
      </p:cxnSp>
      <p:pic>
        <p:nvPicPr>
          <p:cNvPr id="317" name="Рисунок 9" descr=""/>
          <p:cNvPicPr/>
          <p:nvPr/>
        </p:nvPicPr>
        <p:blipFill>
          <a:blip r:embed="rId2"/>
          <a:stretch/>
        </p:blipFill>
        <p:spPr>
          <a:xfrm>
            <a:off x="8334360" y="228600"/>
            <a:ext cx="428760" cy="501480"/>
          </a:xfrm>
          <a:prstGeom prst="rect">
            <a:avLst/>
          </a:prstGeom>
          <a:ln w="0">
            <a:noFill/>
          </a:ln>
        </p:spPr>
      </p:pic>
      <p:cxnSp>
        <p:nvCxnSpPr>
          <p:cNvPr id="318" name="Прямая со стрелкой 12"/>
          <p:cNvCxnSpPr/>
          <p:nvPr/>
        </p:nvCxnSpPr>
        <p:spPr>
          <a:xfrm flipV="1">
            <a:off x="3377880" y="4095000"/>
            <a:ext cx="554760" cy="163260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19" name="Прямая со стрелкой 15"/>
          <p:cNvCxnSpPr/>
          <p:nvPr/>
        </p:nvCxnSpPr>
        <p:spPr>
          <a:xfrm flipV="1">
            <a:off x="3527280" y="3695400"/>
            <a:ext cx="558000" cy="1800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03:44:48Z</dcterms:created>
  <dc:creator>Шиблаков Иван Петрович</dc:creator>
  <dc:description/>
  <dc:language>en-US</dc:language>
  <cp:lastModifiedBy>Надежда Я. Несветайло</cp:lastModifiedBy>
  <cp:lastPrinted>2020-11-30T08:54:48Z</cp:lastPrinted>
  <dcterms:modified xsi:type="dcterms:W3CDTF">2021-12-07T13:55:17Z</dcterms:modified>
  <cp:revision>11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